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A0EAC7-CBBE-489A-9B2E-6B64A927977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17100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1771200"/>
            <a:ext cx="777240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1066680" y="4428000"/>
            <a:ext cx="777240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3AF9B4-CB41-4115-8445-13BC32C00D20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066680" y="17100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066680" y="1771200"/>
            <a:ext cx="3792600" cy="50864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5049360" y="1771200"/>
            <a:ext cx="3792600" cy="50864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066680" y="17100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1066680" y="171000"/>
            <a:ext cx="77724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066680" y="17100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066680" y="1771200"/>
            <a:ext cx="379260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5049360" y="1771200"/>
            <a:ext cx="3792600" cy="50864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1066680" y="4428000"/>
            <a:ext cx="379260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066680" y="17100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066680" y="1771200"/>
            <a:ext cx="3792600" cy="50864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5049360" y="1771200"/>
            <a:ext cx="379260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5049360" y="4428000"/>
            <a:ext cx="379260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066680" y="17100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066680" y="1771200"/>
            <a:ext cx="379260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5049360" y="1771200"/>
            <a:ext cx="379260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1066680" y="4428000"/>
            <a:ext cx="777240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066680" y="17100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066680" y="1771200"/>
            <a:ext cx="777240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1066680" y="4428000"/>
            <a:ext cx="777240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066680" y="17100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1066680" y="1771200"/>
            <a:ext cx="379260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5049360" y="1771200"/>
            <a:ext cx="379260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1066680" y="4428000"/>
            <a:ext cx="379260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5049360" y="4428000"/>
            <a:ext cx="379260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066680" y="17100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1066680" y="1771200"/>
            <a:ext cx="250236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694680" y="1771200"/>
            <a:ext cx="250236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322320" y="1771200"/>
            <a:ext cx="250236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1066680" y="4428000"/>
            <a:ext cx="250236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694680" y="4428000"/>
            <a:ext cx="250236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322320" y="4428000"/>
            <a:ext cx="250236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17100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771200"/>
            <a:ext cx="379260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771200"/>
            <a:ext cx="379260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680" y="4428000"/>
            <a:ext cx="379260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049360" y="4428000"/>
            <a:ext cx="379260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5C8E2E-42F4-4598-B906-2E9E7F16CB4A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066680" y="17100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1066680" y="1771200"/>
            <a:ext cx="7772400" cy="508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066680" y="17100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1066680" y="1771200"/>
            <a:ext cx="7772400" cy="50864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066680" y="17100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1066680" y="1771200"/>
            <a:ext cx="3792600" cy="50864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5049360" y="1771200"/>
            <a:ext cx="3792600" cy="50864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066680" y="17100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1066680" y="171000"/>
            <a:ext cx="77724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066680" y="17100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1066680" y="1771200"/>
            <a:ext cx="379260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5049360" y="1771200"/>
            <a:ext cx="3792600" cy="50864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1066680" y="4428000"/>
            <a:ext cx="379260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066680" y="17100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066680" y="1771200"/>
            <a:ext cx="3792600" cy="50864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5049360" y="1771200"/>
            <a:ext cx="379260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5049360" y="4428000"/>
            <a:ext cx="379260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066680" y="17100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1066680" y="1771200"/>
            <a:ext cx="379260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5049360" y="1771200"/>
            <a:ext cx="379260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1066680" y="4428000"/>
            <a:ext cx="777240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066680" y="17100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1066680" y="1771200"/>
            <a:ext cx="777240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1066680" y="4428000"/>
            <a:ext cx="777240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066680" y="17100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1066680" y="1771200"/>
            <a:ext cx="379260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5049360" y="1771200"/>
            <a:ext cx="379260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1066680" y="4428000"/>
            <a:ext cx="379260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5049360" y="4428000"/>
            <a:ext cx="379260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17100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1771200"/>
            <a:ext cx="250236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694680" y="1771200"/>
            <a:ext cx="250236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322320" y="1771200"/>
            <a:ext cx="250236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1066680" y="4428000"/>
            <a:ext cx="250236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694680" y="4428000"/>
            <a:ext cx="250236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322320" y="4428000"/>
            <a:ext cx="250236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408F02-A758-4C45-AFD8-8C96A8315280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066680" y="17100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1066680" y="1771200"/>
            <a:ext cx="250236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694680" y="1771200"/>
            <a:ext cx="250236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322320" y="1771200"/>
            <a:ext cx="250236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1066680" y="4428000"/>
            <a:ext cx="250236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694680" y="4428000"/>
            <a:ext cx="250236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6322320" y="4428000"/>
            <a:ext cx="250236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066680" y="17100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1066680" y="1771200"/>
            <a:ext cx="7772400" cy="508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066680" y="17100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066680" y="1771200"/>
            <a:ext cx="7772400" cy="50864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066680" y="17100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1066680" y="1771200"/>
            <a:ext cx="3792600" cy="50864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5049360" y="1771200"/>
            <a:ext cx="3792600" cy="50864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066680" y="17100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1066680" y="171000"/>
            <a:ext cx="77724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066680" y="17100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1066680" y="1771200"/>
            <a:ext cx="379260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5049360" y="1771200"/>
            <a:ext cx="3792600" cy="50864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1066680" y="4428000"/>
            <a:ext cx="379260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066680" y="17100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1066680" y="1771200"/>
            <a:ext cx="3792600" cy="50864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5049360" y="1771200"/>
            <a:ext cx="379260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5049360" y="4428000"/>
            <a:ext cx="379260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066680" y="17100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066680" y="1771200"/>
            <a:ext cx="379260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5049360" y="1771200"/>
            <a:ext cx="379260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1066680" y="4428000"/>
            <a:ext cx="777240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066680" y="17100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1066680" y="1771200"/>
            <a:ext cx="777240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1066680" y="4428000"/>
            <a:ext cx="777240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066680" y="17100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1066680" y="1771200"/>
            <a:ext cx="379260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5049360" y="1771200"/>
            <a:ext cx="379260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1066680" y="4428000"/>
            <a:ext cx="379260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5049360" y="4428000"/>
            <a:ext cx="379260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066680" y="17100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066680" y="1771200"/>
            <a:ext cx="250236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694680" y="1771200"/>
            <a:ext cx="250236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322320" y="1771200"/>
            <a:ext cx="250236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1066680" y="4428000"/>
            <a:ext cx="250236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694680" y="4428000"/>
            <a:ext cx="250236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322320" y="4428000"/>
            <a:ext cx="250236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066680" y="17100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subTitle"/>
          </p:nvPr>
        </p:nvSpPr>
        <p:spPr>
          <a:xfrm>
            <a:off x="1066680" y="1771200"/>
            <a:ext cx="7772400" cy="508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066680" y="17100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1066680" y="1771200"/>
            <a:ext cx="7772400" cy="50864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066680" y="17100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1066680" y="1771200"/>
            <a:ext cx="3792600" cy="50864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5049360" y="1771200"/>
            <a:ext cx="3792600" cy="50864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066680" y="17100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ubTitle"/>
          </p:nvPr>
        </p:nvSpPr>
        <p:spPr>
          <a:xfrm>
            <a:off x="1066680" y="171000"/>
            <a:ext cx="77724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066680" y="17100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1066680" y="1771200"/>
            <a:ext cx="379260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5049360" y="1771200"/>
            <a:ext cx="3792600" cy="50864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1066680" y="4428000"/>
            <a:ext cx="379260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17100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66680" y="1771200"/>
            <a:ext cx="7772400" cy="508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066680" y="17100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1066680" y="1771200"/>
            <a:ext cx="3792600" cy="50864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5049360" y="1771200"/>
            <a:ext cx="379260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5049360" y="4428000"/>
            <a:ext cx="379260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066680" y="17100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1066680" y="1771200"/>
            <a:ext cx="379260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5049360" y="1771200"/>
            <a:ext cx="379260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1066680" y="4428000"/>
            <a:ext cx="777240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066680" y="17100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1066680" y="1771200"/>
            <a:ext cx="777240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1066680" y="4428000"/>
            <a:ext cx="777240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066680" y="17100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1066680" y="1771200"/>
            <a:ext cx="379260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5049360" y="1771200"/>
            <a:ext cx="379260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1066680" y="4428000"/>
            <a:ext cx="379260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5049360" y="4428000"/>
            <a:ext cx="379260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066680" y="17100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1066680" y="1771200"/>
            <a:ext cx="250236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3694680" y="1771200"/>
            <a:ext cx="250236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6322320" y="1771200"/>
            <a:ext cx="250236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1066680" y="4428000"/>
            <a:ext cx="250236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6"/>
          <p:cNvSpPr>
            <a:spLocks noGrp="1"/>
          </p:cNvSpPr>
          <p:nvPr>
            <p:ph/>
          </p:nvPr>
        </p:nvSpPr>
        <p:spPr>
          <a:xfrm>
            <a:off x="3694680" y="4428000"/>
            <a:ext cx="250236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7"/>
          <p:cNvSpPr>
            <a:spLocks noGrp="1"/>
          </p:cNvSpPr>
          <p:nvPr>
            <p:ph/>
          </p:nvPr>
        </p:nvSpPr>
        <p:spPr>
          <a:xfrm>
            <a:off x="6322320" y="4428000"/>
            <a:ext cx="250236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066680" y="17100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subTitle"/>
          </p:nvPr>
        </p:nvSpPr>
        <p:spPr>
          <a:xfrm>
            <a:off x="1066680" y="1771200"/>
            <a:ext cx="7772400" cy="508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066680" y="17100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1066680" y="1771200"/>
            <a:ext cx="7772400" cy="50864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066680" y="17100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1066680" y="1771200"/>
            <a:ext cx="3792600" cy="50864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5049360" y="1771200"/>
            <a:ext cx="3792600" cy="50864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066680" y="17100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17100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771200"/>
            <a:ext cx="7772400" cy="50864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ubTitle"/>
          </p:nvPr>
        </p:nvSpPr>
        <p:spPr>
          <a:xfrm>
            <a:off x="1066680" y="171000"/>
            <a:ext cx="77724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066680" y="17100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1066680" y="1771200"/>
            <a:ext cx="379260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5049360" y="1771200"/>
            <a:ext cx="3792600" cy="50864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1066680" y="4428000"/>
            <a:ext cx="379260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1066680" y="17100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1066680" y="1771200"/>
            <a:ext cx="3792600" cy="50864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5049360" y="1771200"/>
            <a:ext cx="379260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5049360" y="4428000"/>
            <a:ext cx="379260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066680" y="17100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066680" y="1771200"/>
            <a:ext cx="379260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5049360" y="1771200"/>
            <a:ext cx="379260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1066680" y="4428000"/>
            <a:ext cx="777240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1066680" y="17100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1066680" y="1771200"/>
            <a:ext cx="777240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1066680" y="4428000"/>
            <a:ext cx="777240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066680" y="17100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1066680" y="1771200"/>
            <a:ext cx="379260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5049360" y="1771200"/>
            <a:ext cx="379260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1066680" y="4428000"/>
            <a:ext cx="379260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/>
          </p:nvPr>
        </p:nvSpPr>
        <p:spPr>
          <a:xfrm>
            <a:off x="5049360" y="4428000"/>
            <a:ext cx="379260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066680" y="17100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1066680" y="1771200"/>
            <a:ext cx="250236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3694680" y="1771200"/>
            <a:ext cx="250236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6322320" y="1771200"/>
            <a:ext cx="250236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1066680" y="4428000"/>
            <a:ext cx="250236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6"/>
          <p:cNvSpPr>
            <a:spLocks noGrp="1"/>
          </p:cNvSpPr>
          <p:nvPr>
            <p:ph/>
          </p:nvPr>
        </p:nvSpPr>
        <p:spPr>
          <a:xfrm>
            <a:off x="3694680" y="4428000"/>
            <a:ext cx="250236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7"/>
          <p:cNvSpPr>
            <a:spLocks noGrp="1"/>
          </p:cNvSpPr>
          <p:nvPr>
            <p:ph/>
          </p:nvPr>
        </p:nvSpPr>
        <p:spPr>
          <a:xfrm>
            <a:off x="6322320" y="4428000"/>
            <a:ext cx="250236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066680" y="17100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subTitle"/>
          </p:nvPr>
        </p:nvSpPr>
        <p:spPr>
          <a:xfrm>
            <a:off x="1066680" y="1771200"/>
            <a:ext cx="7772400" cy="508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066680" y="17100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1066680" y="1771200"/>
            <a:ext cx="7772400" cy="50864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066680" y="17100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66680" y="1771200"/>
            <a:ext cx="3792600" cy="50864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049360" y="1771200"/>
            <a:ext cx="3792600" cy="50864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1066680" y="17100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1066680" y="1771200"/>
            <a:ext cx="3792600" cy="50864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5049360" y="1771200"/>
            <a:ext cx="3792600" cy="50864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066680" y="17100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ubTitle"/>
          </p:nvPr>
        </p:nvSpPr>
        <p:spPr>
          <a:xfrm>
            <a:off x="1066680" y="171000"/>
            <a:ext cx="77724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1066680" y="17100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1066680" y="1771200"/>
            <a:ext cx="379260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049360" y="1771200"/>
            <a:ext cx="3792600" cy="50864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1066680" y="4428000"/>
            <a:ext cx="379260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066680" y="17100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1066680" y="1771200"/>
            <a:ext cx="3792600" cy="50864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5049360" y="1771200"/>
            <a:ext cx="379260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5049360" y="4428000"/>
            <a:ext cx="379260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066680" y="17100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1066680" y="1771200"/>
            <a:ext cx="379260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5049360" y="1771200"/>
            <a:ext cx="379260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1066680" y="4428000"/>
            <a:ext cx="777240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066680" y="17100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1066680" y="1771200"/>
            <a:ext cx="777240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1066680" y="4428000"/>
            <a:ext cx="777240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1066680" y="17100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1066680" y="1771200"/>
            <a:ext cx="379260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5049360" y="1771200"/>
            <a:ext cx="379260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1066680" y="4428000"/>
            <a:ext cx="379260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5049360" y="4428000"/>
            <a:ext cx="379260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1066680" y="17100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1066680" y="1771200"/>
            <a:ext cx="250236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3694680" y="1771200"/>
            <a:ext cx="250236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6322320" y="1771200"/>
            <a:ext cx="250236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/>
          </p:nvPr>
        </p:nvSpPr>
        <p:spPr>
          <a:xfrm>
            <a:off x="1066680" y="4428000"/>
            <a:ext cx="250236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6"/>
          <p:cNvSpPr>
            <a:spLocks noGrp="1"/>
          </p:cNvSpPr>
          <p:nvPr>
            <p:ph/>
          </p:nvPr>
        </p:nvSpPr>
        <p:spPr>
          <a:xfrm>
            <a:off x="3694680" y="4428000"/>
            <a:ext cx="250236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7"/>
          <p:cNvSpPr>
            <a:spLocks noGrp="1"/>
          </p:cNvSpPr>
          <p:nvPr>
            <p:ph/>
          </p:nvPr>
        </p:nvSpPr>
        <p:spPr>
          <a:xfrm>
            <a:off x="6322320" y="4428000"/>
            <a:ext cx="250236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680" y="17100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1066680" y="17100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subTitle"/>
          </p:nvPr>
        </p:nvSpPr>
        <p:spPr>
          <a:xfrm>
            <a:off x="1066680" y="1771200"/>
            <a:ext cx="7772400" cy="508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066680" y="17100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1066680" y="1771200"/>
            <a:ext cx="7772400" cy="50864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1066680" y="17100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1066680" y="1771200"/>
            <a:ext cx="3792600" cy="50864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5049360" y="1771200"/>
            <a:ext cx="3792600" cy="50864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1066680" y="17100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subTitle"/>
          </p:nvPr>
        </p:nvSpPr>
        <p:spPr>
          <a:xfrm>
            <a:off x="1066680" y="171000"/>
            <a:ext cx="77724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1066680" y="17100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1066680" y="1771200"/>
            <a:ext cx="379260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5049360" y="1771200"/>
            <a:ext cx="3792600" cy="50864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1066680" y="4428000"/>
            <a:ext cx="379260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1066680" y="17100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1066680" y="1771200"/>
            <a:ext cx="3792600" cy="50864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49360" y="1771200"/>
            <a:ext cx="379260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5049360" y="4428000"/>
            <a:ext cx="379260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1066680" y="17100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1066680" y="1771200"/>
            <a:ext cx="379260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5049360" y="1771200"/>
            <a:ext cx="379260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1066680" y="4428000"/>
            <a:ext cx="777240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1066680" y="17100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1066680" y="1771200"/>
            <a:ext cx="777240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1066680" y="4428000"/>
            <a:ext cx="777240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1066680" y="17100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1066680" y="1771200"/>
            <a:ext cx="379260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5049360" y="1771200"/>
            <a:ext cx="379260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1066680" y="4428000"/>
            <a:ext cx="379260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/>
          </p:nvPr>
        </p:nvSpPr>
        <p:spPr>
          <a:xfrm>
            <a:off x="5049360" y="4428000"/>
            <a:ext cx="379260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1066680" y="171000"/>
            <a:ext cx="77724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1066680" y="17100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1066680" y="1771200"/>
            <a:ext cx="250236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3694680" y="1771200"/>
            <a:ext cx="250236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6322320" y="1771200"/>
            <a:ext cx="250236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/>
          </p:nvPr>
        </p:nvSpPr>
        <p:spPr>
          <a:xfrm>
            <a:off x="1066680" y="4428000"/>
            <a:ext cx="250236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6"/>
          <p:cNvSpPr>
            <a:spLocks noGrp="1"/>
          </p:cNvSpPr>
          <p:nvPr>
            <p:ph/>
          </p:nvPr>
        </p:nvSpPr>
        <p:spPr>
          <a:xfrm>
            <a:off x="3694680" y="4428000"/>
            <a:ext cx="250236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7"/>
          <p:cNvSpPr>
            <a:spLocks noGrp="1"/>
          </p:cNvSpPr>
          <p:nvPr>
            <p:ph/>
          </p:nvPr>
        </p:nvSpPr>
        <p:spPr>
          <a:xfrm>
            <a:off x="6322320" y="4428000"/>
            <a:ext cx="250236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1066680" y="17100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1066680" y="1771200"/>
            <a:ext cx="7772400" cy="508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1066680" y="17100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1066680" y="1771200"/>
            <a:ext cx="7772400" cy="50864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1066680" y="17100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1066680" y="1771200"/>
            <a:ext cx="3792600" cy="50864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5049360" y="1771200"/>
            <a:ext cx="3792600" cy="50864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066680" y="17100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1066680" y="171000"/>
            <a:ext cx="77724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1066680" y="17100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1066680" y="1771200"/>
            <a:ext cx="379260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5049360" y="1771200"/>
            <a:ext cx="3792600" cy="50864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1066680" y="4428000"/>
            <a:ext cx="379260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1066680" y="17100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1066680" y="1771200"/>
            <a:ext cx="3792600" cy="50864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5049360" y="1771200"/>
            <a:ext cx="379260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5049360" y="4428000"/>
            <a:ext cx="379260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1066680" y="17100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1066680" y="1771200"/>
            <a:ext cx="379260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5049360" y="1771200"/>
            <a:ext cx="379260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1066680" y="4428000"/>
            <a:ext cx="777240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17100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066680" y="1771200"/>
            <a:ext cx="379260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49360" y="1771200"/>
            <a:ext cx="3792600" cy="50864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1066680" y="4428000"/>
            <a:ext cx="379260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1066680" y="17100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1066680" y="1771200"/>
            <a:ext cx="777240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1066680" y="4428000"/>
            <a:ext cx="777240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1066680" y="17100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1066680" y="1771200"/>
            <a:ext cx="379260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5049360" y="1771200"/>
            <a:ext cx="379260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1066680" y="4428000"/>
            <a:ext cx="379260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5049360" y="4428000"/>
            <a:ext cx="379260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66680" y="17100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66680" y="1771200"/>
            <a:ext cx="250236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694680" y="1771200"/>
            <a:ext cx="250236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322320" y="1771200"/>
            <a:ext cx="250236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1066680" y="4428000"/>
            <a:ext cx="250236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694680" y="4428000"/>
            <a:ext cx="250236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322320" y="4428000"/>
            <a:ext cx="250236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066680" y="17100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1066680" y="1771200"/>
            <a:ext cx="7772400" cy="508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0D7348-9B41-42CD-BD86-AE47CCC3E91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17100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6680" y="1771200"/>
            <a:ext cx="3792600" cy="50864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49360" y="1771200"/>
            <a:ext cx="379260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5049360" y="4428000"/>
            <a:ext cx="379260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17100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1771200"/>
            <a:ext cx="379260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1771200"/>
            <a:ext cx="379260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066680" y="4428000"/>
            <a:ext cx="777240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17100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066680" y="1771200"/>
            <a:ext cx="777240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1066680" y="4428000"/>
            <a:ext cx="777240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17100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6680" y="1771200"/>
            <a:ext cx="379260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9360" y="1771200"/>
            <a:ext cx="379260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066680" y="4428000"/>
            <a:ext cx="379260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5049360" y="4428000"/>
            <a:ext cx="379260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17100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6680" y="1771200"/>
            <a:ext cx="250236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694680" y="1771200"/>
            <a:ext cx="250236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322320" y="1771200"/>
            <a:ext cx="250236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1066680" y="4428000"/>
            <a:ext cx="250236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694680" y="4428000"/>
            <a:ext cx="250236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322320" y="4428000"/>
            <a:ext cx="250236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713B1A-8AD0-46E7-B843-0B066BFA816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17100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066680" y="1771200"/>
            <a:ext cx="7772400" cy="508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37A178-9D59-4980-9F63-10ADF949C4C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17100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771200"/>
            <a:ext cx="7772400" cy="50864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03A142-28DF-4FC3-9881-202D21708A5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66680" y="17100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66680" y="1771200"/>
            <a:ext cx="3792600" cy="50864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049360" y="1771200"/>
            <a:ext cx="3792600" cy="50864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AF4311-4CE2-438C-A41B-F67550901FB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66680" y="17100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B958EF-F18A-4AA0-AECF-F0937A40F34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66680" y="17100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1066680" y="1771200"/>
            <a:ext cx="7772400" cy="50864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D602E1-6A83-4921-9799-E3F6F7E97F4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1066680" y="171000"/>
            <a:ext cx="77724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6C4601-413A-4EC4-8919-88578EAFAAE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17100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66680" y="1771200"/>
            <a:ext cx="379260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049360" y="1771200"/>
            <a:ext cx="3792600" cy="50864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1066680" y="4428000"/>
            <a:ext cx="379260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359D2B-FE11-4791-9906-F6C106F92F6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680" y="17100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680" y="1771200"/>
            <a:ext cx="3792600" cy="50864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049360" y="1771200"/>
            <a:ext cx="379260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049360" y="4428000"/>
            <a:ext cx="379260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94B2EB-B0E7-4F68-9182-C7B4834A642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680" y="17100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66680" y="1771200"/>
            <a:ext cx="379260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049360" y="1771200"/>
            <a:ext cx="379260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066680" y="4428000"/>
            <a:ext cx="777240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A8FB0A-F663-4F1A-BD74-5CF57B0DBDB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17100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771200"/>
            <a:ext cx="777240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1066680" y="4428000"/>
            <a:ext cx="777240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EC3F6F-FE06-4B2D-9ED8-164B8A5EDD3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17100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1771200"/>
            <a:ext cx="379260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049360" y="1771200"/>
            <a:ext cx="379260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066680" y="4428000"/>
            <a:ext cx="379260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5049360" y="4428000"/>
            <a:ext cx="379260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198C96-1460-4CA5-88BB-BFF996441A8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17100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771200"/>
            <a:ext cx="250236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694680" y="1771200"/>
            <a:ext cx="250236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322320" y="1771200"/>
            <a:ext cx="250236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1066680" y="4428000"/>
            <a:ext cx="250236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694680" y="4428000"/>
            <a:ext cx="250236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322320" y="4428000"/>
            <a:ext cx="250236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3C63FF-7005-4D63-B7F9-AD4D3A79809D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680" y="17100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066680" y="1771200"/>
            <a:ext cx="7772400" cy="508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17100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66680" y="1771200"/>
            <a:ext cx="7772400" cy="50864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17100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66680" y="1771200"/>
            <a:ext cx="3792600" cy="50864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049360" y="1771200"/>
            <a:ext cx="3792600" cy="50864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EFC046-A323-4BC1-BE72-D58CDB278601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680" y="17100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66680" y="1771200"/>
            <a:ext cx="3792600" cy="50864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049360" y="1771200"/>
            <a:ext cx="3792600" cy="50864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17100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1066680" y="171000"/>
            <a:ext cx="77724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17100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680" y="1771200"/>
            <a:ext cx="379260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049360" y="1771200"/>
            <a:ext cx="3792600" cy="50864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1066680" y="4428000"/>
            <a:ext cx="379260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17100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66680" y="1771200"/>
            <a:ext cx="3792600" cy="50864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049360" y="1771200"/>
            <a:ext cx="379260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5049360" y="4428000"/>
            <a:ext cx="379260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66680" y="17100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066680" y="1771200"/>
            <a:ext cx="379260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049360" y="1771200"/>
            <a:ext cx="379260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1066680" y="4428000"/>
            <a:ext cx="777240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66680" y="17100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066680" y="1771200"/>
            <a:ext cx="777240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1066680" y="4428000"/>
            <a:ext cx="777240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66680" y="17100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066680" y="1771200"/>
            <a:ext cx="379260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049360" y="1771200"/>
            <a:ext cx="379260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1066680" y="4428000"/>
            <a:ext cx="379260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5049360" y="4428000"/>
            <a:ext cx="379260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66680" y="17100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066680" y="1771200"/>
            <a:ext cx="250236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694680" y="1771200"/>
            <a:ext cx="250236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322320" y="1771200"/>
            <a:ext cx="250236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1066680" y="4428000"/>
            <a:ext cx="250236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3694680" y="4428000"/>
            <a:ext cx="250236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6322320" y="4428000"/>
            <a:ext cx="250236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66680" y="17100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B4EDFB-5C03-4697-9A9B-56778E313F77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66680" y="17100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1066680" y="1771200"/>
            <a:ext cx="7772400" cy="508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066680" y="17100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066680" y="1771200"/>
            <a:ext cx="7772400" cy="50864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66680" y="17100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066680" y="1771200"/>
            <a:ext cx="3792600" cy="50864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5049360" y="1771200"/>
            <a:ext cx="3792600" cy="50864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17100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1066680" y="171000"/>
            <a:ext cx="77724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17100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771200"/>
            <a:ext cx="379260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5049360" y="1771200"/>
            <a:ext cx="3792600" cy="50864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1066680" y="4428000"/>
            <a:ext cx="379260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17100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771200"/>
            <a:ext cx="3792600" cy="50864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5049360" y="1771200"/>
            <a:ext cx="379260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5049360" y="4428000"/>
            <a:ext cx="379260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066680" y="17100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066680" y="1771200"/>
            <a:ext cx="379260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049360" y="1771200"/>
            <a:ext cx="379260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066680" y="4428000"/>
            <a:ext cx="777240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066680" y="17100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066680" y="1771200"/>
            <a:ext cx="777240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1066680" y="4428000"/>
            <a:ext cx="777240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066680" y="17100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066680" y="1771200"/>
            <a:ext cx="379260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49360" y="1771200"/>
            <a:ext cx="379260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1066680" y="4428000"/>
            <a:ext cx="379260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5049360" y="4428000"/>
            <a:ext cx="379260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1066680" y="171000"/>
            <a:ext cx="77724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CC3907-5C33-4F20-BA49-3AE8E7AD1736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066680" y="17100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066680" y="1771200"/>
            <a:ext cx="250236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694680" y="1771200"/>
            <a:ext cx="250236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322320" y="1771200"/>
            <a:ext cx="250236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1066680" y="4428000"/>
            <a:ext cx="250236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694680" y="4428000"/>
            <a:ext cx="250236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322320" y="4428000"/>
            <a:ext cx="250236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066680" y="17100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1066680" y="1771200"/>
            <a:ext cx="7772400" cy="508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066680" y="17100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066680" y="1771200"/>
            <a:ext cx="7772400" cy="50864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066680" y="17100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066680" y="1771200"/>
            <a:ext cx="3792600" cy="50864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5049360" y="1771200"/>
            <a:ext cx="3792600" cy="50864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066680" y="17100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1066680" y="171000"/>
            <a:ext cx="77724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066680" y="17100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066680" y="1771200"/>
            <a:ext cx="379260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5049360" y="1771200"/>
            <a:ext cx="3792600" cy="50864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1066680" y="4428000"/>
            <a:ext cx="379260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66680" y="17100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066680" y="1771200"/>
            <a:ext cx="3792600" cy="50864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5049360" y="1771200"/>
            <a:ext cx="379260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5049360" y="4428000"/>
            <a:ext cx="379260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066680" y="17100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066680" y="1771200"/>
            <a:ext cx="379260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5049360" y="1771200"/>
            <a:ext cx="379260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1066680" y="4428000"/>
            <a:ext cx="777240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680" y="17100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66680" y="1771200"/>
            <a:ext cx="379260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49360" y="1771200"/>
            <a:ext cx="3792600" cy="50864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1066680" y="4428000"/>
            <a:ext cx="379260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EC5160-60F2-431C-9245-B45C31CB4665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7100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066680" y="1771200"/>
            <a:ext cx="777240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1066680" y="4428000"/>
            <a:ext cx="777240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066680" y="17100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066680" y="1771200"/>
            <a:ext cx="379260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5049360" y="1771200"/>
            <a:ext cx="379260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1066680" y="4428000"/>
            <a:ext cx="379260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5049360" y="4428000"/>
            <a:ext cx="379260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066680" y="17100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066680" y="1771200"/>
            <a:ext cx="250236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694680" y="1771200"/>
            <a:ext cx="250236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322320" y="1771200"/>
            <a:ext cx="250236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1066680" y="4428000"/>
            <a:ext cx="250236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694680" y="4428000"/>
            <a:ext cx="250236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322320" y="4428000"/>
            <a:ext cx="250236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066680" y="17100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1066680" y="1771200"/>
            <a:ext cx="7772400" cy="508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66680" y="17100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066680" y="1771200"/>
            <a:ext cx="7772400" cy="50864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066680" y="17100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066680" y="1771200"/>
            <a:ext cx="3792600" cy="50864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5049360" y="1771200"/>
            <a:ext cx="3792600" cy="50864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66680" y="17100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1066680" y="171000"/>
            <a:ext cx="77724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066680" y="17100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066680" y="1771200"/>
            <a:ext cx="379260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49360" y="1771200"/>
            <a:ext cx="3792600" cy="50864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1066680" y="4428000"/>
            <a:ext cx="379260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17100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771200"/>
            <a:ext cx="3792600" cy="50864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49360" y="1771200"/>
            <a:ext cx="379260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049360" y="4428000"/>
            <a:ext cx="379260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AB0E57-7CC8-471F-BA70-FBBC2428FAE8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066680" y="17100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066680" y="1771200"/>
            <a:ext cx="3792600" cy="50864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5049360" y="1771200"/>
            <a:ext cx="379260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049360" y="4428000"/>
            <a:ext cx="379260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066680" y="17100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066680" y="1771200"/>
            <a:ext cx="379260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5049360" y="1771200"/>
            <a:ext cx="379260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1066680" y="4428000"/>
            <a:ext cx="777240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066680" y="17100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066680" y="1771200"/>
            <a:ext cx="777240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1066680" y="4428000"/>
            <a:ext cx="777240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066680" y="17100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066680" y="1771200"/>
            <a:ext cx="379260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5049360" y="1771200"/>
            <a:ext cx="379260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1066680" y="4428000"/>
            <a:ext cx="379260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5049360" y="4428000"/>
            <a:ext cx="379260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066680" y="17100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066680" y="1771200"/>
            <a:ext cx="250236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694680" y="1771200"/>
            <a:ext cx="250236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322320" y="1771200"/>
            <a:ext cx="250236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1066680" y="4428000"/>
            <a:ext cx="250236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694680" y="4428000"/>
            <a:ext cx="250236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322320" y="4428000"/>
            <a:ext cx="250236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066680" y="17100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1066680" y="1771200"/>
            <a:ext cx="7772400" cy="508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066680" y="17100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066680" y="1771200"/>
            <a:ext cx="7772400" cy="50864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066680" y="17100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066680" y="1771200"/>
            <a:ext cx="3792600" cy="50864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049360" y="1771200"/>
            <a:ext cx="3792600" cy="50864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066680" y="17100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17100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1771200"/>
            <a:ext cx="379260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1771200"/>
            <a:ext cx="379260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428000"/>
            <a:ext cx="777240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F519D3-7C69-4698-9B41-2373B7A57EAD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1066680" y="171000"/>
            <a:ext cx="77724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066680" y="17100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066680" y="1771200"/>
            <a:ext cx="379260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5049360" y="1771200"/>
            <a:ext cx="3792600" cy="50864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1066680" y="4428000"/>
            <a:ext cx="379260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066680" y="17100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066680" y="1771200"/>
            <a:ext cx="3792600" cy="50864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5049360" y="1771200"/>
            <a:ext cx="379260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5049360" y="4428000"/>
            <a:ext cx="379260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066680" y="17100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066680" y="1771200"/>
            <a:ext cx="379260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5049360" y="1771200"/>
            <a:ext cx="379260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1066680" y="4428000"/>
            <a:ext cx="777240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066680" y="17100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066680" y="1771200"/>
            <a:ext cx="777240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1066680" y="4428000"/>
            <a:ext cx="777240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066680" y="17100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066680" y="1771200"/>
            <a:ext cx="379260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049360" y="1771200"/>
            <a:ext cx="379260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1066680" y="4428000"/>
            <a:ext cx="379260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049360" y="4428000"/>
            <a:ext cx="379260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066680" y="17100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066680" y="1771200"/>
            <a:ext cx="250236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694680" y="1771200"/>
            <a:ext cx="250236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322320" y="1771200"/>
            <a:ext cx="250236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1066680" y="4428000"/>
            <a:ext cx="250236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3694680" y="4428000"/>
            <a:ext cx="250236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6322320" y="4428000"/>
            <a:ext cx="250236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066680" y="17100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1066680" y="1771200"/>
            <a:ext cx="7772400" cy="508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066680" y="17100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066680" y="1771200"/>
            <a:ext cx="7772400" cy="50864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6680" y="17100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66680" y="1771200"/>
            <a:ext cx="7772400" cy="50864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188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84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904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4624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4624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4624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740360" y="6322680"/>
            <a:ext cx="291960" cy="2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60402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F1CBE-F730-435A-AE26-A7AFE6907824}" type="slidenum">
              <a:rPr b="0" lang="en-US" sz="1400" spc="-1" strike="noStrike">
                <a:solidFill>
                  <a:srgbClr val="060402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body"/>
          </p:nvPr>
        </p:nvSpPr>
        <p:spPr>
          <a:xfrm>
            <a:off x="444240" y="3378240"/>
            <a:ext cx="4127400" cy="2324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7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1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2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3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4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5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6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title"/>
          </p:nvPr>
        </p:nvSpPr>
        <p:spPr>
          <a:xfrm>
            <a:off x="444240" y="990720"/>
            <a:ext cx="4127400" cy="2324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888840" y="177840"/>
            <a:ext cx="7366320" cy="1714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5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888840" y="177840"/>
            <a:ext cx="7366320" cy="1714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5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888480" y="1942920"/>
            <a:ext cx="3543480" cy="4025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 fontScale="81000"/>
          </a:bodyPr>
          <a:p>
            <a:pPr marL="487080" indent="-312120">
              <a:spcBef>
                <a:spcPts val="27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765000" indent="-312480">
              <a:spcBef>
                <a:spcPts val="27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2" marL="1042560" indent="-312120">
              <a:spcBef>
                <a:spcPts val="27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3" marL="1330560" indent="-312120">
              <a:spcBef>
                <a:spcPts val="27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4" marL="1608480" indent="-312480">
              <a:spcBef>
                <a:spcPts val="27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5" marL="1608480" indent="-312480">
              <a:spcBef>
                <a:spcPts val="27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6" marL="1608480" indent="-312480">
              <a:spcBef>
                <a:spcPts val="27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888840" y="177840"/>
            <a:ext cx="7366320" cy="1714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5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888840" y="1942920"/>
            <a:ext cx="7366320" cy="4025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94000"/>
          </a:bodyPr>
          <a:p>
            <a:pPr marL="565200" indent="-362160">
              <a:spcBef>
                <a:spcPts val="27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887760" indent="-362520">
              <a:spcBef>
                <a:spcPts val="27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2" marL="1209960" indent="-362160">
              <a:spcBef>
                <a:spcPts val="27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3" marL="1544400" indent="-362160">
              <a:spcBef>
                <a:spcPts val="27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4" marL="1866600" indent="-362520">
              <a:spcBef>
                <a:spcPts val="27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5" marL="1866600" indent="-362520">
              <a:spcBef>
                <a:spcPts val="27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6" marL="1866600" indent="-362520">
              <a:spcBef>
                <a:spcPts val="27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888840" y="177840"/>
            <a:ext cx="7366320" cy="1714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5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5460840" y="1942920"/>
            <a:ext cx="2794320" cy="4025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 fontScale="69000"/>
          </a:bodyPr>
          <a:p>
            <a:pPr marL="414720" indent="-265680">
              <a:spcBef>
                <a:spcPts val="27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651600" indent="-266040">
              <a:spcBef>
                <a:spcPts val="27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2" marL="888120" indent="-265680">
              <a:spcBef>
                <a:spcPts val="27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3" marL="1133640" indent="-265680">
              <a:spcBef>
                <a:spcPts val="27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4" marL="1370160" indent="-266040">
              <a:spcBef>
                <a:spcPts val="27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5" marL="1370160" indent="-266040">
              <a:spcBef>
                <a:spcPts val="27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6" marL="1370160" indent="-266040">
              <a:spcBef>
                <a:spcPts val="27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888840" y="177840"/>
            <a:ext cx="7366320" cy="1714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5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888480" y="1942920"/>
            <a:ext cx="3543480" cy="4025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 fontScale="81000"/>
          </a:bodyPr>
          <a:p>
            <a:pPr marL="487080" indent="-312120">
              <a:spcBef>
                <a:spcPts val="27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765000" indent="-312480">
              <a:spcBef>
                <a:spcPts val="27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2" marL="1042560" indent="-312120">
              <a:spcBef>
                <a:spcPts val="27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3" marL="1330560" indent="-312120">
              <a:spcBef>
                <a:spcPts val="27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4" marL="1608480" indent="-312480">
              <a:spcBef>
                <a:spcPts val="27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5" marL="1608480" indent="-312480">
              <a:spcBef>
                <a:spcPts val="27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6" marL="1608480" indent="-312480">
              <a:spcBef>
                <a:spcPts val="27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888840" y="888840"/>
            <a:ext cx="7366320" cy="5080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 fontScale="91000"/>
          </a:bodyPr>
          <a:p>
            <a:pPr marL="600480" indent="-403920">
              <a:spcBef>
                <a:spcPts val="33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912960" indent="-404280">
              <a:spcBef>
                <a:spcPts val="33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marL="1224720" indent="-403920">
              <a:spcBef>
                <a:spcPts val="33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1548360" indent="-403920">
              <a:spcBef>
                <a:spcPts val="33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marL="1860480" indent="-404280">
              <a:spcBef>
                <a:spcPts val="33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5" marL="1860480" indent="-404280">
              <a:spcBef>
                <a:spcPts val="33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6" marL="1860480" indent="-404280">
              <a:spcBef>
                <a:spcPts val="33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5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680" y="17100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1066680" y="1771200"/>
            <a:ext cx="7772400" cy="50864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188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84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904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4624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4624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4624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2"/>
          </p:nvPr>
        </p:nvSpPr>
        <p:spPr>
          <a:xfrm>
            <a:off x="7778520" y="6337080"/>
            <a:ext cx="291960" cy="2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9864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09761-492F-4523-BB98-C4C249AE5785}" type="slidenum">
              <a:rPr b="0" lang="en-US" sz="1400" spc="-1" strike="noStrike">
                <a:solidFill>
                  <a:srgbClr val="cc9864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88840" y="177840"/>
            <a:ext cx="7366320" cy="1714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5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888840" y="1942920"/>
            <a:ext cx="7366320" cy="4025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 fontScale="94000"/>
          </a:bodyPr>
          <a:p>
            <a:pPr marL="620280" indent="-41724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942840" indent="-41760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marL="1265040" indent="-41724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1599480" indent="-41724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marL="1922040" indent="-41760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5" marL="1922040" indent="-41760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6" marL="1922040" indent="-41760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88840" y="2095200"/>
            <a:ext cx="7366320" cy="2679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5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888840" y="3530160"/>
            <a:ext cx="7366320" cy="800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28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3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4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5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6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title"/>
          </p:nvPr>
        </p:nvSpPr>
        <p:spPr>
          <a:xfrm>
            <a:off x="888840" y="1155600"/>
            <a:ext cx="7366320" cy="2324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5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88840" y="5181480"/>
            <a:ext cx="7366320" cy="1206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5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88840" y="5181480"/>
            <a:ext cx="7366320" cy="1206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5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body"/>
          </p:nvPr>
        </p:nvSpPr>
        <p:spPr>
          <a:xfrm>
            <a:off x="444240" y="3378240"/>
            <a:ext cx="4127400" cy="2324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7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1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2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3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4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5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6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title"/>
          </p:nvPr>
        </p:nvSpPr>
        <p:spPr>
          <a:xfrm>
            <a:off x="444240" y="990720"/>
            <a:ext cx="4127400" cy="2324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8" name=""/>
          <p:cNvGrpSpPr/>
          <p:nvPr/>
        </p:nvGrpSpPr>
        <p:grpSpPr>
          <a:xfrm>
            <a:off x="0" y="50760"/>
            <a:ext cx="8926560" cy="6743880"/>
            <a:chOff x="0" y="50760"/>
            <a:chExt cx="8926560" cy="6743880"/>
          </a:xfrm>
        </p:grpSpPr>
        <p:grpSp>
          <p:nvGrpSpPr>
            <p:cNvPr id="609" name=""/>
            <p:cNvGrpSpPr/>
            <p:nvPr/>
          </p:nvGrpSpPr>
          <p:grpSpPr>
            <a:xfrm>
              <a:off x="0" y="50760"/>
              <a:ext cx="8926560" cy="6743880"/>
              <a:chOff x="0" y="50760"/>
              <a:chExt cx="8926560" cy="6743880"/>
            </a:xfrm>
          </p:grpSpPr>
          <p:sp>
            <p:nvSpPr>
              <p:cNvPr id="610" name=""/>
              <p:cNvSpPr/>
              <p:nvPr/>
            </p:nvSpPr>
            <p:spPr>
              <a:xfrm>
                <a:off x="528480" y="201600"/>
                <a:ext cx="8398080" cy="64659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611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0" y="50760"/>
                <a:ext cx="1181160" cy="4286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12" name=""/>
              <p:cNvSpPr/>
              <p:nvPr/>
            </p:nvSpPr>
            <p:spPr>
              <a:xfrm>
                <a:off x="596880" y="4129200"/>
                <a:ext cx="1041480" cy="457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613" name="" descr=""/>
              <p:cNvPicPr/>
              <p:nvPr/>
            </p:nvPicPr>
            <p:blipFill>
              <a:blip r:embed="rId2"/>
              <a:srcRect l="0" t="40000" r="0" b="0"/>
              <a:stretch/>
            </p:blipFill>
            <p:spPr>
              <a:xfrm>
                <a:off x="0" y="4222800"/>
                <a:ext cx="1181160" cy="2571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14" name=""/>
            <p:cNvGrpSpPr/>
            <p:nvPr/>
          </p:nvGrpSpPr>
          <p:grpSpPr>
            <a:xfrm>
              <a:off x="1149480" y="1542960"/>
              <a:ext cx="7742160" cy="4802040"/>
              <a:chOff x="1149480" y="1542960"/>
              <a:chExt cx="7742160" cy="4802040"/>
            </a:xfrm>
          </p:grpSpPr>
          <p:sp>
            <p:nvSpPr>
              <p:cNvPr id="615" name=""/>
              <p:cNvSpPr/>
              <p:nvPr/>
            </p:nvSpPr>
            <p:spPr>
              <a:xfrm>
                <a:off x="1149480" y="1542960"/>
                <a:ext cx="7742160" cy="1440"/>
              </a:xfrm>
              <a:prstGeom prst="line">
                <a:avLst/>
              </a:prstGeom>
              <a:ln w="9360">
                <a:solidFill>
                  <a:srgbClr val="cbbd8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1149480" y="1771560"/>
                <a:ext cx="7742160" cy="1440"/>
              </a:xfrm>
              <a:prstGeom prst="line">
                <a:avLst/>
              </a:prstGeom>
              <a:ln w="9360">
                <a:solidFill>
                  <a:srgbClr val="cbbd8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1149480" y="2000160"/>
                <a:ext cx="7742160" cy="1440"/>
              </a:xfrm>
              <a:prstGeom prst="line">
                <a:avLst/>
              </a:prstGeom>
              <a:ln w="9360">
                <a:solidFill>
                  <a:srgbClr val="cbbd8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1149480" y="2228760"/>
                <a:ext cx="7742160" cy="1440"/>
              </a:xfrm>
              <a:prstGeom prst="line">
                <a:avLst/>
              </a:prstGeom>
              <a:ln w="9360">
                <a:solidFill>
                  <a:srgbClr val="cbbd8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1149480" y="2457360"/>
                <a:ext cx="7742160" cy="1440"/>
              </a:xfrm>
              <a:prstGeom prst="line">
                <a:avLst/>
              </a:prstGeom>
              <a:ln w="9360">
                <a:solidFill>
                  <a:srgbClr val="cbbd8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1149480" y="2685960"/>
                <a:ext cx="7742160" cy="1440"/>
              </a:xfrm>
              <a:prstGeom prst="line">
                <a:avLst/>
              </a:prstGeom>
              <a:ln w="9360">
                <a:solidFill>
                  <a:srgbClr val="cbbd8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1149480" y="2914560"/>
                <a:ext cx="7742160" cy="1440"/>
              </a:xfrm>
              <a:prstGeom prst="line">
                <a:avLst/>
              </a:prstGeom>
              <a:ln w="9360">
                <a:solidFill>
                  <a:srgbClr val="cbbd8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1149480" y="3143160"/>
                <a:ext cx="7742160" cy="1440"/>
              </a:xfrm>
              <a:prstGeom prst="line">
                <a:avLst/>
              </a:prstGeom>
              <a:ln w="9360">
                <a:solidFill>
                  <a:srgbClr val="cbbd8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1149480" y="3371760"/>
                <a:ext cx="7742160" cy="1440"/>
              </a:xfrm>
              <a:prstGeom prst="line">
                <a:avLst/>
              </a:prstGeom>
              <a:ln w="9360">
                <a:solidFill>
                  <a:srgbClr val="cbbd8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1149480" y="3600360"/>
                <a:ext cx="7742160" cy="1440"/>
              </a:xfrm>
              <a:prstGeom prst="line">
                <a:avLst/>
              </a:prstGeom>
              <a:ln w="9360">
                <a:solidFill>
                  <a:srgbClr val="cbbd8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1149480" y="3828960"/>
                <a:ext cx="7742160" cy="1440"/>
              </a:xfrm>
              <a:prstGeom prst="line">
                <a:avLst/>
              </a:prstGeom>
              <a:ln w="9360">
                <a:solidFill>
                  <a:srgbClr val="cbbd8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1149480" y="4057560"/>
                <a:ext cx="7742160" cy="1440"/>
              </a:xfrm>
              <a:prstGeom prst="line">
                <a:avLst/>
              </a:prstGeom>
              <a:ln w="9360">
                <a:solidFill>
                  <a:srgbClr val="cbbd8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1149480" y="4286160"/>
                <a:ext cx="7742160" cy="1440"/>
              </a:xfrm>
              <a:prstGeom prst="line">
                <a:avLst/>
              </a:prstGeom>
              <a:ln w="9360">
                <a:solidFill>
                  <a:srgbClr val="cbbd8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1149480" y="4514760"/>
                <a:ext cx="7742160" cy="1440"/>
              </a:xfrm>
              <a:prstGeom prst="line">
                <a:avLst/>
              </a:prstGeom>
              <a:ln w="9360">
                <a:solidFill>
                  <a:srgbClr val="cbbd8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1149480" y="4743360"/>
                <a:ext cx="7742160" cy="1440"/>
              </a:xfrm>
              <a:prstGeom prst="line">
                <a:avLst/>
              </a:prstGeom>
              <a:ln w="9360">
                <a:solidFill>
                  <a:srgbClr val="cbbd8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1149480" y="4971960"/>
                <a:ext cx="7742160" cy="1440"/>
              </a:xfrm>
              <a:prstGeom prst="line">
                <a:avLst/>
              </a:prstGeom>
              <a:ln w="9360">
                <a:solidFill>
                  <a:srgbClr val="cbbd8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1149480" y="5200560"/>
                <a:ext cx="7742160" cy="1440"/>
              </a:xfrm>
              <a:prstGeom prst="line">
                <a:avLst/>
              </a:prstGeom>
              <a:ln w="9360">
                <a:solidFill>
                  <a:srgbClr val="cbbd8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1149480" y="5429160"/>
                <a:ext cx="7742160" cy="1440"/>
              </a:xfrm>
              <a:prstGeom prst="line">
                <a:avLst/>
              </a:prstGeom>
              <a:ln w="9360">
                <a:solidFill>
                  <a:srgbClr val="cbbd8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1149480" y="5657760"/>
                <a:ext cx="7742160" cy="1440"/>
              </a:xfrm>
              <a:prstGeom prst="line">
                <a:avLst/>
              </a:prstGeom>
              <a:ln w="9360">
                <a:solidFill>
                  <a:srgbClr val="cbbd8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1149480" y="5886360"/>
                <a:ext cx="7742160" cy="1440"/>
              </a:xfrm>
              <a:prstGeom prst="line">
                <a:avLst/>
              </a:prstGeom>
              <a:ln w="9360">
                <a:solidFill>
                  <a:srgbClr val="cbbd8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1149480" y="6114960"/>
                <a:ext cx="7742160" cy="1440"/>
              </a:xfrm>
              <a:prstGeom prst="line">
                <a:avLst/>
              </a:prstGeom>
              <a:ln w="9360">
                <a:solidFill>
                  <a:srgbClr val="cbbd8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1149480" y="6343560"/>
                <a:ext cx="7742160" cy="1440"/>
              </a:xfrm>
              <a:prstGeom prst="line">
                <a:avLst/>
              </a:prstGeom>
              <a:ln w="9360">
                <a:solidFill>
                  <a:srgbClr val="cbbd8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1066680" y="17100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BELL RINGER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1066680" y="1314000"/>
            <a:ext cx="7772400" cy="50864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ARE TWO THINGS THAT MUST HAPPEN WITH ALL LEFT HAND PAGES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 txBox="1"/>
          <p:nvPr/>
        </p:nvSpPr>
        <p:spPr>
          <a:xfrm>
            <a:off x="7740360" y="6322680"/>
            <a:ext cx="291960" cy="2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4B6CC-E128-41F3-B0A0-DCED13BB7BF8}" type="slidenum">
              <a:rPr b="0" lang="en-US" sz="1400" spc="-1" strike="noStrike">
                <a:solidFill>
                  <a:srgbClr val="060402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4048B9-8238-4B24-B3D4-77EE69360DB7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0" name=""/>
          <p:cNvGrpSpPr/>
          <p:nvPr/>
        </p:nvGrpSpPr>
        <p:grpSpPr>
          <a:xfrm>
            <a:off x="0" y="50760"/>
            <a:ext cx="8926560" cy="6743880"/>
            <a:chOff x="0" y="50760"/>
            <a:chExt cx="8926560" cy="6743880"/>
          </a:xfrm>
        </p:grpSpPr>
        <p:grpSp>
          <p:nvGrpSpPr>
            <p:cNvPr id="641" name=""/>
            <p:cNvGrpSpPr/>
            <p:nvPr/>
          </p:nvGrpSpPr>
          <p:grpSpPr>
            <a:xfrm>
              <a:off x="0" y="50760"/>
              <a:ext cx="8926560" cy="6743880"/>
              <a:chOff x="0" y="50760"/>
              <a:chExt cx="8926560" cy="6743880"/>
            </a:xfrm>
          </p:grpSpPr>
          <p:sp>
            <p:nvSpPr>
              <p:cNvPr id="642" name=""/>
              <p:cNvSpPr/>
              <p:nvPr/>
            </p:nvSpPr>
            <p:spPr>
              <a:xfrm>
                <a:off x="528480" y="201600"/>
                <a:ext cx="8398080" cy="64659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643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0" y="50760"/>
                <a:ext cx="1181160" cy="4286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44" name=""/>
              <p:cNvSpPr/>
              <p:nvPr/>
            </p:nvSpPr>
            <p:spPr>
              <a:xfrm>
                <a:off x="596880" y="4129200"/>
                <a:ext cx="1041480" cy="457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645" name="" descr=""/>
              <p:cNvPicPr/>
              <p:nvPr/>
            </p:nvPicPr>
            <p:blipFill>
              <a:blip r:embed="rId2"/>
              <a:srcRect l="0" t="40000" r="0" b="0"/>
              <a:stretch/>
            </p:blipFill>
            <p:spPr>
              <a:xfrm>
                <a:off x="0" y="4222800"/>
                <a:ext cx="1181160" cy="2571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46" name=""/>
            <p:cNvGrpSpPr/>
            <p:nvPr/>
          </p:nvGrpSpPr>
          <p:grpSpPr>
            <a:xfrm>
              <a:off x="1149480" y="1542960"/>
              <a:ext cx="7742160" cy="4802040"/>
              <a:chOff x="1149480" y="1542960"/>
              <a:chExt cx="7742160" cy="4802040"/>
            </a:xfrm>
          </p:grpSpPr>
          <p:sp>
            <p:nvSpPr>
              <p:cNvPr id="647" name=""/>
              <p:cNvSpPr/>
              <p:nvPr/>
            </p:nvSpPr>
            <p:spPr>
              <a:xfrm>
                <a:off x="1149480" y="1542960"/>
                <a:ext cx="7742160" cy="1440"/>
              </a:xfrm>
              <a:prstGeom prst="line">
                <a:avLst/>
              </a:prstGeom>
              <a:ln w="9360">
                <a:solidFill>
                  <a:srgbClr val="cbbd8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1149480" y="1771560"/>
                <a:ext cx="7742160" cy="1440"/>
              </a:xfrm>
              <a:prstGeom prst="line">
                <a:avLst/>
              </a:prstGeom>
              <a:ln w="9360">
                <a:solidFill>
                  <a:srgbClr val="cbbd8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1149480" y="2000160"/>
                <a:ext cx="7742160" cy="1440"/>
              </a:xfrm>
              <a:prstGeom prst="line">
                <a:avLst/>
              </a:prstGeom>
              <a:ln w="9360">
                <a:solidFill>
                  <a:srgbClr val="cbbd8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1149480" y="2228760"/>
                <a:ext cx="7742160" cy="1440"/>
              </a:xfrm>
              <a:prstGeom prst="line">
                <a:avLst/>
              </a:prstGeom>
              <a:ln w="9360">
                <a:solidFill>
                  <a:srgbClr val="cbbd8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1149480" y="2457360"/>
                <a:ext cx="7742160" cy="1440"/>
              </a:xfrm>
              <a:prstGeom prst="line">
                <a:avLst/>
              </a:prstGeom>
              <a:ln w="9360">
                <a:solidFill>
                  <a:srgbClr val="cbbd8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1149480" y="2685960"/>
                <a:ext cx="7742160" cy="1440"/>
              </a:xfrm>
              <a:prstGeom prst="line">
                <a:avLst/>
              </a:prstGeom>
              <a:ln w="9360">
                <a:solidFill>
                  <a:srgbClr val="cbbd8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1149480" y="2914560"/>
                <a:ext cx="7742160" cy="1440"/>
              </a:xfrm>
              <a:prstGeom prst="line">
                <a:avLst/>
              </a:prstGeom>
              <a:ln w="9360">
                <a:solidFill>
                  <a:srgbClr val="cbbd8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1149480" y="3143160"/>
                <a:ext cx="7742160" cy="1440"/>
              </a:xfrm>
              <a:prstGeom prst="line">
                <a:avLst/>
              </a:prstGeom>
              <a:ln w="9360">
                <a:solidFill>
                  <a:srgbClr val="cbbd8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1149480" y="3371760"/>
                <a:ext cx="7742160" cy="1440"/>
              </a:xfrm>
              <a:prstGeom prst="line">
                <a:avLst/>
              </a:prstGeom>
              <a:ln w="9360">
                <a:solidFill>
                  <a:srgbClr val="cbbd8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1149480" y="3600360"/>
                <a:ext cx="7742160" cy="1440"/>
              </a:xfrm>
              <a:prstGeom prst="line">
                <a:avLst/>
              </a:prstGeom>
              <a:ln w="9360">
                <a:solidFill>
                  <a:srgbClr val="cbbd8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1149480" y="3828960"/>
                <a:ext cx="7742160" cy="1440"/>
              </a:xfrm>
              <a:prstGeom prst="line">
                <a:avLst/>
              </a:prstGeom>
              <a:ln w="9360">
                <a:solidFill>
                  <a:srgbClr val="cbbd8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1149480" y="4057560"/>
                <a:ext cx="7742160" cy="1440"/>
              </a:xfrm>
              <a:prstGeom prst="line">
                <a:avLst/>
              </a:prstGeom>
              <a:ln w="9360">
                <a:solidFill>
                  <a:srgbClr val="cbbd8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1149480" y="4286160"/>
                <a:ext cx="7742160" cy="1440"/>
              </a:xfrm>
              <a:prstGeom prst="line">
                <a:avLst/>
              </a:prstGeom>
              <a:ln w="9360">
                <a:solidFill>
                  <a:srgbClr val="cbbd8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1149480" y="4514760"/>
                <a:ext cx="7742160" cy="1440"/>
              </a:xfrm>
              <a:prstGeom prst="line">
                <a:avLst/>
              </a:prstGeom>
              <a:ln w="9360">
                <a:solidFill>
                  <a:srgbClr val="cbbd8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1149480" y="4743360"/>
                <a:ext cx="7742160" cy="1440"/>
              </a:xfrm>
              <a:prstGeom prst="line">
                <a:avLst/>
              </a:prstGeom>
              <a:ln w="9360">
                <a:solidFill>
                  <a:srgbClr val="cbbd8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1149480" y="4971960"/>
                <a:ext cx="7742160" cy="1440"/>
              </a:xfrm>
              <a:prstGeom prst="line">
                <a:avLst/>
              </a:prstGeom>
              <a:ln w="9360">
                <a:solidFill>
                  <a:srgbClr val="cbbd8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1149480" y="5200560"/>
                <a:ext cx="7742160" cy="1440"/>
              </a:xfrm>
              <a:prstGeom prst="line">
                <a:avLst/>
              </a:prstGeom>
              <a:ln w="9360">
                <a:solidFill>
                  <a:srgbClr val="cbbd8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1149480" y="5429160"/>
                <a:ext cx="7742160" cy="1440"/>
              </a:xfrm>
              <a:prstGeom prst="line">
                <a:avLst/>
              </a:prstGeom>
              <a:ln w="9360">
                <a:solidFill>
                  <a:srgbClr val="cbbd8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1149480" y="5657760"/>
                <a:ext cx="7742160" cy="1440"/>
              </a:xfrm>
              <a:prstGeom prst="line">
                <a:avLst/>
              </a:prstGeom>
              <a:ln w="9360">
                <a:solidFill>
                  <a:srgbClr val="cbbd8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1149480" y="5886360"/>
                <a:ext cx="7742160" cy="1440"/>
              </a:xfrm>
              <a:prstGeom prst="line">
                <a:avLst/>
              </a:prstGeom>
              <a:ln w="9360">
                <a:solidFill>
                  <a:srgbClr val="cbbd8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1149480" y="6114960"/>
                <a:ext cx="7742160" cy="1440"/>
              </a:xfrm>
              <a:prstGeom prst="line">
                <a:avLst/>
              </a:prstGeom>
              <a:ln w="9360">
                <a:solidFill>
                  <a:srgbClr val="cbbd8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1149480" y="6343560"/>
                <a:ext cx="7742160" cy="1440"/>
              </a:xfrm>
              <a:prstGeom prst="line">
                <a:avLst/>
              </a:prstGeom>
              <a:ln w="9360">
                <a:solidFill>
                  <a:srgbClr val="cbbd8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69" name=""/>
          <p:cNvSpPr txBox="1"/>
          <p:nvPr/>
        </p:nvSpPr>
        <p:spPr>
          <a:xfrm>
            <a:off x="7740360" y="6322680"/>
            <a:ext cx="291960" cy="2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5BA6E-BC8B-4D9E-AB5F-A03028B31D1D}" type="slidenum">
              <a:rPr b="0" lang="en-US" sz="1400" spc="-1" strike="noStrike">
                <a:solidFill>
                  <a:srgbClr val="060402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1066680" y="17100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21304"/>
                </a:solidFill>
                <a:latin typeface="Lucida Grande"/>
                <a:ea typeface="Lucida Grande"/>
              </a:rPr>
              <a:t>Cornell Notetaking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1066680" y="1771200"/>
            <a:ext cx="3810240" cy="50864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dcc"/>
                </a:solidFill>
                <a:latin typeface="Lucida Grande"/>
                <a:ea typeface="Lucida Grande"/>
              </a:rPr>
              <a:t>Why should yo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dcc"/>
                </a:solidFill>
                <a:latin typeface="Lucida Grande"/>
                <a:ea typeface="Lucida Grande"/>
              </a:rPr>
              <a:t>take not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952880" y="1600200"/>
            <a:ext cx="38228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82680" indent="-343080">
              <a:lnSpc>
                <a:spcPct val="100000"/>
              </a:lnSpc>
              <a:spcBef>
                <a:spcPts val="286"/>
              </a:spcBef>
              <a:buClr>
                <a:srgbClr val="221304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90b00"/>
                </a:solidFill>
                <a:latin typeface="Lucida Grande"/>
                <a:ea typeface="Lucida Grande"/>
              </a:rPr>
              <a:t>To minimize your “rate of forgetting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43080">
              <a:lnSpc>
                <a:spcPct val="100000"/>
              </a:lnSpc>
              <a:spcBef>
                <a:spcPts val="238"/>
              </a:spcBef>
              <a:buClr>
                <a:srgbClr val="221304"/>
              </a:buClr>
              <a:buFont typeface="Helvetica"/>
              <a:buChar char="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21304"/>
                </a:solidFill>
                <a:latin typeface="Lucida Grande"/>
                <a:ea typeface="Lucida Grande"/>
              </a:rPr>
              <a:t>Dr. Walter Pauk, Cornell University Reading Cen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43080">
              <a:lnSpc>
                <a:spcPct val="100000"/>
              </a:lnSpc>
              <a:spcBef>
                <a:spcPts val="238"/>
              </a:spcBef>
              <a:buClr>
                <a:srgbClr val="221304"/>
              </a:buClr>
              <a:buFont typeface="Helvetica"/>
              <a:buChar char="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90b00"/>
                </a:solidFill>
                <a:latin typeface="Lucida Grande"/>
                <a:ea typeface="Lucida Grande"/>
              </a:rPr>
              <a:t>Don’t take notes = Forget 60 % in 14 day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43080">
              <a:lnSpc>
                <a:spcPct val="100000"/>
              </a:lnSpc>
              <a:spcBef>
                <a:spcPts val="238"/>
              </a:spcBef>
              <a:buClr>
                <a:srgbClr val="221304"/>
              </a:buClr>
              <a:buFont typeface="Helvetica"/>
              <a:buChar char="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90b00"/>
                </a:solidFill>
                <a:latin typeface="Lucida Grande"/>
                <a:ea typeface="Lucida Grande"/>
              </a:rPr>
              <a:t>Take some notes = Remember 60 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43080">
              <a:lnSpc>
                <a:spcPct val="100000"/>
              </a:lnSpc>
              <a:spcBef>
                <a:spcPts val="238"/>
              </a:spcBef>
              <a:buClr>
                <a:srgbClr val="221304"/>
              </a:buClr>
              <a:buFont typeface="Helvetica"/>
              <a:buChar char="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90b00"/>
                </a:solidFill>
                <a:latin typeface="Lucida Grande"/>
                <a:ea typeface="Lucida Grande"/>
              </a:rPr>
              <a:t>Take organized notes and do something with them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43080">
              <a:lnSpc>
                <a:spcPct val="100000"/>
              </a:lnSpc>
              <a:spcBef>
                <a:spcPts val="2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90b00"/>
                </a:solidFill>
                <a:latin typeface="Lucida Grande"/>
                <a:ea typeface="Lucida Grande"/>
              </a:rPr>
              <a:t>    </a:t>
            </a:r>
            <a:r>
              <a:rPr b="0" lang="en-US" sz="2000" spc="-1" strike="noStrike">
                <a:solidFill>
                  <a:srgbClr val="d90b00"/>
                </a:solidFill>
                <a:latin typeface="Lucida Grande"/>
                <a:ea typeface="Lucida Grande"/>
              </a:rPr>
              <a:t>Remember 90-100% indefinitely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4952880" y="5486400"/>
            <a:ext cx="38991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More the Better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4" name=""/>
          <p:cNvGrpSpPr/>
          <p:nvPr/>
        </p:nvGrpSpPr>
        <p:grpSpPr>
          <a:xfrm>
            <a:off x="0" y="50760"/>
            <a:ext cx="8926560" cy="6743880"/>
            <a:chOff x="0" y="50760"/>
            <a:chExt cx="8926560" cy="6743880"/>
          </a:xfrm>
        </p:grpSpPr>
        <p:grpSp>
          <p:nvGrpSpPr>
            <p:cNvPr id="675" name=""/>
            <p:cNvGrpSpPr/>
            <p:nvPr/>
          </p:nvGrpSpPr>
          <p:grpSpPr>
            <a:xfrm>
              <a:off x="0" y="50760"/>
              <a:ext cx="8926560" cy="6743880"/>
              <a:chOff x="0" y="50760"/>
              <a:chExt cx="8926560" cy="6743880"/>
            </a:xfrm>
          </p:grpSpPr>
          <p:sp>
            <p:nvSpPr>
              <p:cNvPr id="676" name=""/>
              <p:cNvSpPr/>
              <p:nvPr/>
            </p:nvSpPr>
            <p:spPr>
              <a:xfrm>
                <a:off x="528480" y="201600"/>
                <a:ext cx="8398080" cy="64659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677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0" y="50760"/>
                <a:ext cx="1181160" cy="4286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78" name=""/>
              <p:cNvSpPr/>
              <p:nvPr/>
            </p:nvSpPr>
            <p:spPr>
              <a:xfrm>
                <a:off x="596880" y="4129200"/>
                <a:ext cx="1041480" cy="457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679" name="" descr=""/>
              <p:cNvPicPr/>
              <p:nvPr/>
            </p:nvPicPr>
            <p:blipFill>
              <a:blip r:embed="rId2"/>
              <a:srcRect l="0" t="40000" r="0" b="0"/>
              <a:stretch/>
            </p:blipFill>
            <p:spPr>
              <a:xfrm>
                <a:off x="0" y="4222800"/>
                <a:ext cx="1181160" cy="2571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80" name=""/>
            <p:cNvGrpSpPr/>
            <p:nvPr/>
          </p:nvGrpSpPr>
          <p:grpSpPr>
            <a:xfrm>
              <a:off x="1149480" y="1542960"/>
              <a:ext cx="7742160" cy="4802040"/>
              <a:chOff x="1149480" y="1542960"/>
              <a:chExt cx="7742160" cy="4802040"/>
            </a:xfrm>
          </p:grpSpPr>
          <p:sp>
            <p:nvSpPr>
              <p:cNvPr id="681" name=""/>
              <p:cNvSpPr/>
              <p:nvPr/>
            </p:nvSpPr>
            <p:spPr>
              <a:xfrm>
                <a:off x="1149480" y="1542960"/>
                <a:ext cx="7742160" cy="1440"/>
              </a:xfrm>
              <a:prstGeom prst="line">
                <a:avLst/>
              </a:prstGeom>
              <a:ln w="9360">
                <a:solidFill>
                  <a:srgbClr val="cbbd8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1149480" y="1771560"/>
                <a:ext cx="7742160" cy="1440"/>
              </a:xfrm>
              <a:prstGeom prst="line">
                <a:avLst/>
              </a:prstGeom>
              <a:ln w="9360">
                <a:solidFill>
                  <a:srgbClr val="cbbd8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1149480" y="2000160"/>
                <a:ext cx="7742160" cy="1440"/>
              </a:xfrm>
              <a:prstGeom prst="line">
                <a:avLst/>
              </a:prstGeom>
              <a:ln w="9360">
                <a:solidFill>
                  <a:srgbClr val="cbbd8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1149480" y="2228760"/>
                <a:ext cx="7742160" cy="1440"/>
              </a:xfrm>
              <a:prstGeom prst="line">
                <a:avLst/>
              </a:prstGeom>
              <a:ln w="9360">
                <a:solidFill>
                  <a:srgbClr val="cbbd8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1149480" y="2457360"/>
                <a:ext cx="7742160" cy="1440"/>
              </a:xfrm>
              <a:prstGeom prst="line">
                <a:avLst/>
              </a:prstGeom>
              <a:ln w="9360">
                <a:solidFill>
                  <a:srgbClr val="cbbd8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1149480" y="2685960"/>
                <a:ext cx="7742160" cy="1440"/>
              </a:xfrm>
              <a:prstGeom prst="line">
                <a:avLst/>
              </a:prstGeom>
              <a:ln w="9360">
                <a:solidFill>
                  <a:srgbClr val="cbbd8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1149480" y="2914560"/>
                <a:ext cx="7742160" cy="1440"/>
              </a:xfrm>
              <a:prstGeom prst="line">
                <a:avLst/>
              </a:prstGeom>
              <a:ln w="9360">
                <a:solidFill>
                  <a:srgbClr val="cbbd8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1149480" y="3143160"/>
                <a:ext cx="7742160" cy="1440"/>
              </a:xfrm>
              <a:prstGeom prst="line">
                <a:avLst/>
              </a:prstGeom>
              <a:ln w="9360">
                <a:solidFill>
                  <a:srgbClr val="cbbd8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1149480" y="3371760"/>
                <a:ext cx="7742160" cy="1440"/>
              </a:xfrm>
              <a:prstGeom prst="line">
                <a:avLst/>
              </a:prstGeom>
              <a:ln w="9360">
                <a:solidFill>
                  <a:srgbClr val="cbbd8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1149480" y="3600360"/>
                <a:ext cx="7742160" cy="1440"/>
              </a:xfrm>
              <a:prstGeom prst="line">
                <a:avLst/>
              </a:prstGeom>
              <a:ln w="9360">
                <a:solidFill>
                  <a:srgbClr val="cbbd8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1149480" y="3828960"/>
                <a:ext cx="7742160" cy="1440"/>
              </a:xfrm>
              <a:prstGeom prst="line">
                <a:avLst/>
              </a:prstGeom>
              <a:ln w="9360">
                <a:solidFill>
                  <a:srgbClr val="cbbd8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1149480" y="4057560"/>
                <a:ext cx="7742160" cy="1440"/>
              </a:xfrm>
              <a:prstGeom prst="line">
                <a:avLst/>
              </a:prstGeom>
              <a:ln w="9360">
                <a:solidFill>
                  <a:srgbClr val="cbbd8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1149480" y="4286160"/>
                <a:ext cx="7742160" cy="1440"/>
              </a:xfrm>
              <a:prstGeom prst="line">
                <a:avLst/>
              </a:prstGeom>
              <a:ln w="9360">
                <a:solidFill>
                  <a:srgbClr val="cbbd8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1149480" y="4514760"/>
                <a:ext cx="7742160" cy="1440"/>
              </a:xfrm>
              <a:prstGeom prst="line">
                <a:avLst/>
              </a:prstGeom>
              <a:ln w="9360">
                <a:solidFill>
                  <a:srgbClr val="cbbd8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1149480" y="4743360"/>
                <a:ext cx="7742160" cy="1440"/>
              </a:xfrm>
              <a:prstGeom prst="line">
                <a:avLst/>
              </a:prstGeom>
              <a:ln w="9360">
                <a:solidFill>
                  <a:srgbClr val="cbbd8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1149480" y="4971960"/>
                <a:ext cx="7742160" cy="1440"/>
              </a:xfrm>
              <a:prstGeom prst="line">
                <a:avLst/>
              </a:prstGeom>
              <a:ln w="9360">
                <a:solidFill>
                  <a:srgbClr val="cbbd8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1149480" y="5200560"/>
                <a:ext cx="7742160" cy="1440"/>
              </a:xfrm>
              <a:prstGeom prst="line">
                <a:avLst/>
              </a:prstGeom>
              <a:ln w="9360">
                <a:solidFill>
                  <a:srgbClr val="cbbd8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1149480" y="5429160"/>
                <a:ext cx="7742160" cy="1440"/>
              </a:xfrm>
              <a:prstGeom prst="line">
                <a:avLst/>
              </a:prstGeom>
              <a:ln w="9360">
                <a:solidFill>
                  <a:srgbClr val="cbbd8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1149480" y="5657760"/>
                <a:ext cx="7742160" cy="1440"/>
              </a:xfrm>
              <a:prstGeom prst="line">
                <a:avLst/>
              </a:prstGeom>
              <a:ln w="9360">
                <a:solidFill>
                  <a:srgbClr val="cbbd8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1149480" y="5886360"/>
                <a:ext cx="7742160" cy="1440"/>
              </a:xfrm>
              <a:prstGeom prst="line">
                <a:avLst/>
              </a:prstGeom>
              <a:ln w="9360">
                <a:solidFill>
                  <a:srgbClr val="cbbd8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1149480" y="6114960"/>
                <a:ext cx="7742160" cy="1440"/>
              </a:xfrm>
              <a:prstGeom prst="line">
                <a:avLst/>
              </a:prstGeom>
              <a:ln w="9360">
                <a:solidFill>
                  <a:srgbClr val="cbbd8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1149480" y="6343560"/>
                <a:ext cx="7742160" cy="1440"/>
              </a:xfrm>
              <a:prstGeom prst="line">
                <a:avLst/>
              </a:prstGeom>
              <a:ln w="9360">
                <a:solidFill>
                  <a:srgbClr val="cbbd8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03" name=""/>
          <p:cNvSpPr txBox="1"/>
          <p:nvPr/>
        </p:nvSpPr>
        <p:spPr>
          <a:xfrm>
            <a:off x="7740360" y="6322680"/>
            <a:ext cx="291960" cy="2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C00F2-9699-447B-B37A-5D02E33140BA}" type="slidenum">
              <a:rPr b="0" lang="en-US" sz="1400" spc="-1" strike="noStrike">
                <a:solidFill>
                  <a:srgbClr val="060402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72400" cy="19432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Lucida Grande"/>
                <a:ea typeface="Lucida Grande"/>
              </a:rPr>
              <a:t>Cornell Notetaking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381024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Dr. Pauk created the Cornell Notetaking System, which is used at Stanford, UCLA’s School of Engineering, most Law Schools, and of course, at Cornell Univer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The Cornell System requires the student to review notes and think critically after learning has taken pl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5257800" y="2438280"/>
            <a:ext cx="350532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6172200" y="2514600"/>
            <a:ext cx="0" cy="236232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5257800" y="5257800"/>
            <a:ext cx="3505320" cy="14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5257800" y="2514600"/>
            <a:ext cx="1440" cy="266688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5257800" y="4724280"/>
            <a:ext cx="3581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8763120" y="2514600"/>
            <a:ext cx="1440" cy="220968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7924680" y="2438280"/>
            <a:ext cx="1800" cy="22860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5257800" y="2479680"/>
            <a:ext cx="92700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p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7924680" y="2590920"/>
            <a:ext cx="851040" cy="15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9600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9600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ra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9600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?’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5181480" y="4800600"/>
            <a:ext cx="35942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mari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6" name=""/>
          <p:cNvGraphicFramePr/>
          <p:nvPr/>
        </p:nvGraphicFramePr>
        <p:xfrm>
          <a:off x="139680" y="19080"/>
          <a:ext cx="8889840" cy="6806880"/>
        </p:xfrm>
        <a:graphic>
          <a:graphicData uri="http://schemas.openxmlformats.org/drawingml/2006/table">
            <a:tbl>
              <a:tblPr/>
              <a:tblGrid>
                <a:gridCol w="2963880"/>
                <a:gridCol w="5925960"/>
              </a:tblGrid>
              <a:tr h="15670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pic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 _________________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uestions/Main Ideas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am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 ________________________________________________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as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 ________________________________________________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erio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 _______________________________________________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 _________________________________________________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tes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7080">
                <a:tc>
                  <a:txBody>
                    <a:bodyPr lIns="0" rIns="0" tIns="0" bIns="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7080">
                <a:tc>
                  <a:txBody>
                    <a:bodyPr lIns="0" rIns="0" tIns="0" bIns="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7080">
                <a:tc>
                  <a:txBody>
                    <a:bodyPr lIns="0" rIns="0" tIns="0" bIns="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7080">
                <a:tc>
                  <a:txBody>
                    <a:bodyPr lIns="0" rIns="0" tIns="0" bIns="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7080">
                <a:tc>
                  <a:txBody>
                    <a:bodyPr lIns="0" rIns="0" tIns="0" bIns="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7440">
                <a:tc>
                  <a:txBody>
                    <a:bodyPr lIns="0" rIns="0" tIns="0" bIns="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7080">
                <a:tc>
                  <a:txBody>
                    <a:bodyPr lIns="0" rIns="0" tIns="0" bIns="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7440">
                <a:tc>
                  <a:txBody>
                    <a:bodyPr lIns="0" rIns="0" tIns="0" bIns="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7080">
                <a:tc>
                  <a:txBody>
                    <a:bodyPr lIns="0" rIns="0" tIns="0" bIns="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7080">
                <a:tc>
                  <a:txBody>
                    <a:bodyPr lIns="0" rIns="0" tIns="0" bIns="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7080">
                <a:tc>
                  <a:txBody>
                    <a:bodyPr lIns="0" rIns="0" tIns="0" bIns="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7440">
                <a:tc>
                  <a:txBody>
                    <a:bodyPr lIns="0" rIns="0" tIns="0" bIns="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7080">
                <a:tc>
                  <a:txBody>
                    <a:bodyPr lIns="0" rIns="0" tIns="0" bIns="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7080">
                <a:tc>
                  <a:txBody>
                    <a:bodyPr lIns="0" rIns="0" tIns="0" bIns="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7440">
                <a:tc>
                  <a:txBody>
                    <a:bodyPr lIns="0" rIns="0" tIns="0" bIns="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7080">
                <a:tc>
                  <a:txBody>
                    <a:bodyPr lIns="0" rIns="0" tIns="0" bIns="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7080">
                <a:tc>
                  <a:txBody>
                    <a:bodyPr lIns="0" rIns="0" tIns="0" bIns="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7440">
                <a:tc>
                  <a:txBody>
                    <a:bodyPr lIns="0" rIns="0" tIns="0" bIns="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7080">
                <a:tc>
                  <a:txBody>
                    <a:bodyPr lIns="0" rIns="0" tIns="0" bIns="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7080">
                <a:tc>
                  <a:txBody>
                    <a:bodyPr lIns="0" rIns="0" tIns="0" bIns="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7320">
                <a:tc grid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ummary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7080">
                <a:tc gridSpan="2">
                  <a:txBody>
                    <a:bodyPr lIns="0" rIns="0" tIns="0" bIns="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7080">
                <a:tc>
                  <a:txBody>
                    <a:bodyPr lIns="0" rIns="0" tIns="0" bIns="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4920">
                <a:tc>
                  <a:txBody>
                    <a:bodyPr lIns="0" rIns="0" tIns="0" bIns="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7" name=""/>
          <p:cNvGrpSpPr/>
          <p:nvPr/>
        </p:nvGrpSpPr>
        <p:grpSpPr>
          <a:xfrm>
            <a:off x="0" y="50760"/>
            <a:ext cx="8926560" cy="6743880"/>
            <a:chOff x="0" y="50760"/>
            <a:chExt cx="8926560" cy="6743880"/>
          </a:xfrm>
        </p:grpSpPr>
        <p:grpSp>
          <p:nvGrpSpPr>
            <p:cNvPr id="718" name=""/>
            <p:cNvGrpSpPr/>
            <p:nvPr/>
          </p:nvGrpSpPr>
          <p:grpSpPr>
            <a:xfrm>
              <a:off x="0" y="50760"/>
              <a:ext cx="8926560" cy="6743880"/>
              <a:chOff x="0" y="50760"/>
              <a:chExt cx="8926560" cy="6743880"/>
            </a:xfrm>
          </p:grpSpPr>
          <p:sp>
            <p:nvSpPr>
              <p:cNvPr id="719" name=""/>
              <p:cNvSpPr/>
              <p:nvPr/>
            </p:nvSpPr>
            <p:spPr>
              <a:xfrm>
                <a:off x="528480" y="201600"/>
                <a:ext cx="8398080" cy="64659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720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0" y="50760"/>
                <a:ext cx="1181160" cy="4286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21" name=""/>
              <p:cNvSpPr/>
              <p:nvPr/>
            </p:nvSpPr>
            <p:spPr>
              <a:xfrm>
                <a:off x="596880" y="4129200"/>
                <a:ext cx="1041480" cy="457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722" name="" descr=""/>
              <p:cNvPicPr/>
              <p:nvPr/>
            </p:nvPicPr>
            <p:blipFill>
              <a:blip r:embed="rId2"/>
              <a:srcRect l="0" t="40000" r="0" b="0"/>
              <a:stretch/>
            </p:blipFill>
            <p:spPr>
              <a:xfrm>
                <a:off x="0" y="4222800"/>
                <a:ext cx="1181160" cy="2571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723" name=""/>
            <p:cNvGrpSpPr/>
            <p:nvPr/>
          </p:nvGrpSpPr>
          <p:grpSpPr>
            <a:xfrm>
              <a:off x="1149480" y="1542960"/>
              <a:ext cx="7742160" cy="4802040"/>
              <a:chOff x="1149480" y="1542960"/>
              <a:chExt cx="7742160" cy="4802040"/>
            </a:xfrm>
          </p:grpSpPr>
          <p:sp>
            <p:nvSpPr>
              <p:cNvPr id="724" name=""/>
              <p:cNvSpPr/>
              <p:nvPr/>
            </p:nvSpPr>
            <p:spPr>
              <a:xfrm>
                <a:off x="1149480" y="1542960"/>
                <a:ext cx="7742160" cy="1440"/>
              </a:xfrm>
              <a:prstGeom prst="line">
                <a:avLst/>
              </a:prstGeom>
              <a:ln w="9360">
                <a:solidFill>
                  <a:srgbClr val="cbbd8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1149480" y="1771560"/>
                <a:ext cx="7742160" cy="1440"/>
              </a:xfrm>
              <a:prstGeom prst="line">
                <a:avLst/>
              </a:prstGeom>
              <a:ln w="9360">
                <a:solidFill>
                  <a:srgbClr val="cbbd8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1149480" y="2000160"/>
                <a:ext cx="7742160" cy="1440"/>
              </a:xfrm>
              <a:prstGeom prst="line">
                <a:avLst/>
              </a:prstGeom>
              <a:ln w="9360">
                <a:solidFill>
                  <a:srgbClr val="cbbd8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1149480" y="2228760"/>
                <a:ext cx="7742160" cy="1440"/>
              </a:xfrm>
              <a:prstGeom prst="line">
                <a:avLst/>
              </a:prstGeom>
              <a:ln w="9360">
                <a:solidFill>
                  <a:srgbClr val="cbbd8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1149480" y="2457360"/>
                <a:ext cx="7742160" cy="1440"/>
              </a:xfrm>
              <a:prstGeom prst="line">
                <a:avLst/>
              </a:prstGeom>
              <a:ln w="9360">
                <a:solidFill>
                  <a:srgbClr val="cbbd8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1149480" y="2685960"/>
                <a:ext cx="7742160" cy="1440"/>
              </a:xfrm>
              <a:prstGeom prst="line">
                <a:avLst/>
              </a:prstGeom>
              <a:ln w="9360">
                <a:solidFill>
                  <a:srgbClr val="cbbd8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1149480" y="2914560"/>
                <a:ext cx="7742160" cy="1440"/>
              </a:xfrm>
              <a:prstGeom prst="line">
                <a:avLst/>
              </a:prstGeom>
              <a:ln w="9360">
                <a:solidFill>
                  <a:srgbClr val="cbbd8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1149480" y="3143160"/>
                <a:ext cx="7742160" cy="1440"/>
              </a:xfrm>
              <a:prstGeom prst="line">
                <a:avLst/>
              </a:prstGeom>
              <a:ln w="9360">
                <a:solidFill>
                  <a:srgbClr val="cbbd8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1149480" y="3371760"/>
                <a:ext cx="7742160" cy="1440"/>
              </a:xfrm>
              <a:prstGeom prst="line">
                <a:avLst/>
              </a:prstGeom>
              <a:ln w="9360">
                <a:solidFill>
                  <a:srgbClr val="cbbd8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1149480" y="3600360"/>
                <a:ext cx="7742160" cy="1440"/>
              </a:xfrm>
              <a:prstGeom prst="line">
                <a:avLst/>
              </a:prstGeom>
              <a:ln w="9360">
                <a:solidFill>
                  <a:srgbClr val="cbbd8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1149480" y="3828960"/>
                <a:ext cx="7742160" cy="1440"/>
              </a:xfrm>
              <a:prstGeom prst="line">
                <a:avLst/>
              </a:prstGeom>
              <a:ln w="9360">
                <a:solidFill>
                  <a:srgbClr val="cbbd8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1149480" y="4057560"/>
                <a:ext cx="7742160" cy="1440"/>
              </a:xfrm>
              <a:prstGeom prst="line">
                <a:avLst/>
              </a:prstGeom>
              <a:ln w="9360">
                <a:solidFill>
                  <a:srgbClr val="cbbd8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1149480" y="4286160"/>
                <a:ext cx="7742160" cy="1440"/>
              </a:xfrm>
              <a:prstGeom prst="line">
                <a:avLst/>
              </a:prstGeom>
              <a:ln w="9360">
                <a:solidFill>
                  <a:srgbClr val="cbbd8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1149480" y="4514760"/>
                <a:ext cx="7742160" cy="1440"/>
              </a:xfrm>
              <a:prstGeom prst="line">
                <a:avLst/>
              </a:prstGeom>
              <a:ln w="9360">
                <a:solidFill>
                  <a:srgbClr val="cbbd8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1149480" y="4743360"/>
                <a:ext cx="7742160" cy="1440"/>
              </a:xfrm>
              <a:prstGeom prst="line">
                <a:avLst/>
              </a:prstGeom>
              <a:ln w="9360">
                <a:solidFill>
                  <a:srgbClr val="cbbd8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1149480" y="4971960"/>
                <a:ext cx="7742160" cy="1440"/>
              </a:xfrm>
              <a:prstGeom prst="line">
                <a:avLst/>
              </a:prstGeom>
              <a:ln w="9360">
                <a:solidFill>
                  <a:srgbClr val="cbbd8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1149480" y="5200560"/>
                <a:ext cx="7742160" cy="1440"/>
              </a:xfrm>
              <a:prstGeom prst="line">
                <a:avLst/>
              </a:prstGeom>
              <a:ln w="9360">
                <a:solidFill>
                  <a:srgbClr val="cbbd8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1149480" y="5429160"/>
                <a:ext cx="7742160" cy="1440"/>
              </a:xfrm>
              <a:prstGeom prst="line">
                <a:avLst/>
              </a:prstGeom>
              <a:ln w="9360">
                <a:solidFill>
                  <a:srgbClr val="cbbd8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1149480" y="5657760"/>
                <a:ext cx="7742160" cy="1440"/>
              </a:xfrm>
              <a:prstGeom prst="line">
                <a:avLst/>
              </a:prstGeom>
              <a:ln w="9360">
                <a:solidFill>
                  <a:srgbClr val="cbbd8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1149480" y="5886360"/>
                <a:ext cx="7742160" cy="1440"/>
              </a:xfrm>
              <a:prstGeom prst="line">
                <a:avLst/>
              </a:prstGeom>
              <a:ln w="9360">
                <a:solidFill>
                  <a:srgbClr val="cbbd8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1149480" y="6114960"/>
                <a:ext cx="7742160" cy="1440"/>
              </a:xfrm>
              <a:prstGeom prst="line">
                <a:avLst/>
              </a:prstGeom>
              <a:ln w="9360">
                <a:solidFill>
                  <a:srgbClr val="cbbd8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1149480" y="6343560"/>
                <a:ext cx="7742160" cy="1440"/>
              </a:xfrm>
              <a:prstGeom prst="line">
                <a:avLst/>
              </a:prstGeom>
              <a:ln w="9360">
                <a:solidFill>
                  <a:srgbClr val="cbbd8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46" name=""/>
          <p:cNvSpPr txBox="1"/>
          <p:nvPr/>
        </p:nvSpPr>
        <p:spPr>
          <a:xfrm>
            <a:off x="7740360" y="6322680"/>
            <a:ext cx="291960" cy="2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A8833-8D51-4529-B76E-4DA94E962703}" type="slidenum">
              <a:rPr b="0" lang="en-US" sz="1400" spc="-1" strike="noStrike">
                <a:solidFill>
                  <a:srgbClr val="060402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066680" y="17100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21304"/>
                </a:solidFill>
                <a:latin typeface="Lucida Grande"/>
                <a:ea typeface="Lucida Grande"/>
              </a:rPr>
              <a:t>Cornell Notetaking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1066680" y="1771200"/>
            <a:ext cx="3810240" cy="50864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What do you notice that is different about Cornell Not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5029200" y="1771560"/>
            <a:ext cx="3822840" cy="412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82680" indent="-343080">
              <a:lnSpc>
                <a:spcPct val="100000"/>
              </a:lnSpc>
              <a:spcBef>
                <a:spcPts val="286"/>
              </a:spcBef>
              <a:buClr>
                <a:srgbClr val="221304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They are divided into two parts: questions and no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43080">
              <a:lnSpc>
                <a:spcPct val="100000"/>
              </a:lnSpc>
              <a:spcBef>
                <a:spcPts val="286"/>
              </a:spcBef>
              <a:buClr>
                <a:srgbClr val="0e0802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There is a reflection at the 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43080">
              <a:lnSpc>
                <a:spcPct val="100000"/>
              </a:lnSpc>
              <a:spcBef>
                <a:spcPts val="286"/>
              </a:spcBef>
              <a:buClr>
                <a:srgbClr val="0e0802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e0802"/>
                </a:solidFill>
                <a:latin typeface="Lucida Grande"/>
                <a:ea typeface="Lucida Grande"/>
              </a:rPr>
              <a:t>There is room for a top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43080">
              <a:lnSpc>
                <a:spcPct val="100000"/>
              </a:lnSpc>
              <a:spcBef>
                <a:spcPts val="286"/>
              </a:spcBef>
              <a:buClr>
                <a:srgbClr val="221304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1304"/>
                </a:solidFill>
                <a:latin typeface="Lucida Grande"/>
                <a:ea typeface="Lucida Grande"/>
              </a:rPr>
              <a:t>They are labeled with name, date, class, period or other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0" name=""/>
          <p:cNvGrpSpPr/>
          <p:nvPr/>
        </p:nvGrpSpPr>
        <p:grpSpPr>
          <a:xfrm>
            <a:off x="0" y="50760"/>
            <a:ext cx="8926560" cy="6743880"/>
            <a:chOff x="0" y="50760"/>
            <a:chExt cx="8926560" cy="6743880"/>
          </a:xfrm>
        </p:grpSpPr>
        <p:grpSp>
          <p:nvGrpSpPr>
            <p:cNvPr id="751" name=""/>
            <p:cNvGrpSpPr/>
            <p:nvPr/>
          </p:nvGrpSpPr>
          <p:grpSpPr>
            <a:xfrm>
              <a:off x="0" y="50760"/>
              <a:ext cx="8926560" cy="6743880"/>
              <a:chOff x="0" y="50760"/>
              <a:chExt cx="8926560" cy="6743880"/>
            </a:xfrm>
          </p:grpSpPr>
          <p:sp>
            <p:nvSpPr>
              <p:cNvPr id="752" name=""/>
              <p:cNvSpPr/>
              <p:nvPr/>
            </p:nvSpPr>
            <p:spPr>
              <a:xfrm>
                <a:off x="528480" y="201600"/>
                <a:ext cx="8398080" cy="64659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753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0" y="50760"/>
                <a:ext cx="1181160" cy="4286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54" name=""/>
              <p:cNvSpPr/>
              <p:nvPr/>
            </p:nvSpPr>
            <p:spPr>
              <a:xfrm>
                <a:off x="596880" y="4129200"/>
                <a:ext cx="1041480" cy="457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755" name="" descr=""/>
              <p:cNvPicPr/>
              <p:nvPr/>
            </p:nvPicPr>
            <p:blipFill>
              <a:blip r:embed="rId2"/>
              <a:srcRect l="0" t="40000" r="0" b="0"/>
              <a:stretch/>
            </p:blipFill>
            <p:spPr>
              <a:xfrm>
                <a:off x="0" y="4222800"/>
                <a:ext cx="1181160" cy="2571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756" name=""/>
            <p:cNvGrpSpPr/>
            <p:nvPr/>
          </p:nvGrpSpPr>
          <p:grpSpPr>
            <a:xfrm>
              <a:off x="1149480" y="1542960"/>
              <a:ext cx="7742160" cy="4802040"/>
              <a:chOff x="1149480" y="1542960"/>
              <a:chExt cx="7742160" cy="4802040"/>
            </a:xfrm>
          </p:grpSpPr>
          <p:sp>
            <p:nvSpPr>
              <p:cNvPr id="757" name=""/>
              <p:cNvSpPr/>
              <p:nvPr/>
            </p:nvSpPr>
            <p:spPr>
              <a:xfrm>
                <a:off x="1149480" y="1542960"/>
                <a:ext cx="7742160" cy="1440"/>
              </a:xfrm>
              <a:prstGeom prst="line">
                <a:avLst/>
              </a:prstGeom>
              <a:ln w="9360">
                <a:solidFill>
                  <a:srgbClr val="cbbd8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1149480" y="1771560"/>
                <a:ext cx="7742160" cy="1440"/>
              </a:xfrm>
              <a:prstGeom prst="line">
                <a:avLst/>
              </a:prstGeom>
              <a:ln w="9360">
                <a:solidFill>
                  <a:srgbClr val="cbbd8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1149480" y="2000160"/>
                <a:ext cx="7742160" cy="1440"/>
              </a:xfrm>
              <a:prstGeom prst="line">
                <a:avLst/>
              </a:prstGeom>
              <a:ln w="9360">
                <a:solidFill>
                  <a:srgbClr val="cbbd8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1149480" y="2228760"/>
                <a:ext cx="7742160" cy="1440"/>
              </a:xfrm>
              <a:prstGeom prst="line">
                <a:avLst/>
              </a:prstGeom>
              <a:ln w="9360">
                <a:solidFill>
                  <a:srgbClr val="cbbd8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1149480" y="2457360"/>
                <a:ext cx="7742160" cy="1440"/>
              </a:xfrm>
              <a:prstGeom prst="line">
                <a:avLst/>
              </a:prstGeom>
              <a:ln w="9360">
                <a:solidFill>
                  <a:srgbClr val="cbbd8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1149480" y="2685960"/>
                <a:ext cx="7742160" cy="1440"/>
              </a:xfrm>
              <a:prstGeom prst="line">
                <a:avLst/>
              </a:prstGeom>
              <a:ln w="9360">
                <a:solidFill>
                  <a:srgbClr val="cbbd8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1149480" y="2914560"/>
                <a:ext cx="7742160" cy="1440"/>
              </a:xfrm>
              <a:prstGeom prst="line">
                <a:avLst/>
              </a:prstGeom>
              <a:ln w="9360">
                <a:solidFill>
                  <a:srgbClr val="cbbd8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1149480" y="3143160"/>
                <a:ext cx="7742160" cy="1440"/>
              </a:xfrm>
              <a:prstGeom prst="line">
                <a:avLst/>
              </a:prstGeom>
              <a:ln w="9360">
                <a:solidFill>
                  <a:srgbClr val="cbbd8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1149480" y="3371760"/>
                <a:ext cx="7742160" cy="1440"/>
              </a:xfrm>
              <a:prstGeom prst="line">
                <a:avLst/>
              </a:prstGeom>
              <a:ln w="9360">
                <a:solidFill>
                  <a:srgbClr val="cbbd8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1149480" y="3600360"/>
                <a:ext cx="7742160" cy="1440"/>
              </a:xfrm>
              <a:prstGeom prst="line">
                <a:avLst/>
              </a:prstGeom>
              <a:ln w="9360">
                <a:solidFill>
                  <a:srgbClr val="cbbd8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1149480" y="3828960"/>
                <a:ext cx="7742160" cy="1440"/>
              </a:xfrm>
              <a:prstGeom prst="line">
                <a:avLst/>
              </a:prstGeom>
              <a:ln w="9360">
                <a:solidFill>
                  <a:srgbClr val="cbbd8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1149480" y="4057560"/>
                <a:ext cx="7742160" cy="1440"/>
              </a:xfrm>
              <a:prstGeom prst="line">
                <a:avLst/>
              </a:prstGeom>
              <a:ln w="9360">
                <a:solidFill>
                  <a:srgbClr val="cbbd8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1149480" y="4286160"/>
                <a:ext cx="7742160" cy="1440"/>
              </a:xfrm>
              <a:prstGeom prst="line">
                <a:avLst/>
              </a:prstGeom>
              <a:ln w="9360">
                <a:solidFill>
                  <a:srgbClr val="cbbd8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1149480" y="4514760"/>
                <a:ext cx="7742160" cy="1440"/>
              </a:xfrm>
              <a:prstGeom prst="line">
                <a:avLst/>
              </a:prstGeom>
              <a:ln w="9360">
                <a:solidFill>
                  <a:srgbClr val="cbbd8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1149480" y="4743360"/>
                <a:ext cx="7742160" cy="1440"/>
              </a:xfrm>
              <a:prstGeom prst="line">
                <a:avLst/>
              </a:prstGeom>
              <a:ln w="9360">
                <a:solidFill>
                  <a:srgbClr val="cbbd8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1149480" y="4971960"/>
                <a:ext cx="7742160" cy="1440"/>
              </a:xfrm>
              <a:prstGeom prst="line">
                <a:avLst/>
              </a:prstGeom>
              <a:ln w="9360">
                <a:solidFill>
                  <a:srgbClr val="cbbd8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1149480" y="5200560"/>
                <a:ext cx="7742160" cy="1440"/>
              </a:xfrm>
              <a:prstGeom prst="line">
                <a:avLst/>
              </a:prstGeom>
              <a:ln w="9360">
                <a:solidFill>
                  <a:srgbClr val="cbbd8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1149480" y="5429160"/>
                <a:ext cx="7742160" cy="1440"/>
              </a:xfrm>
              <a:prstGeom prst="line">
                <a:avLst/>
              </a:prstGeom>
              <a:ln w="9360">
                <a:solidFill>
                  <a:srgbClr val="cbbd8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1149480" y="5657760"/>
                <a:ext cx="7742160" cy="1440"/>
              </a:xfrm>
              <a:prstGeom prst="line">
                <a:avLst/>
              </a:prstGeom>
              <a:ln w="9360">
                <a:solidFill>
                  <a:srgbClr val="cbbd8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1149480" y="5886360"/>
                <a:ext cx="7742160" cy="1440"/>
              </a:xfrm>
              <a:prstGeom prst="line">
                <a:avLst/>
              </a:prstGeom>
              <a:ln w="9360">
                <a:solidFill>
                  <a:srgbClr val="cbbd8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1149480" y="6114960"/>
                <a:ext cx="7742160" cy="1440"/>
              </a:xfrm>
              <a:prstGeom prst="line">
                <a:avLst/>
              </a:prstGeom>
              <a:ln w="9360">
                <a:solidFill>
                  <a:srgbClr val="cbbd8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1149480" y="6343560"/>
                <a:ext cx="7742160" cy="1440"/>
              </a:xfrm>
              <a:prstGeom prst="line">
                <a:avLst/>
              </a:prstGeom>
              <a:ln w="9360">
                <a:solidFill>
                  <a:srgbClr val="cbbd8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79" name=""/>
          <p:cNvSpPr txBox="1"/>
          <p:nvPr/>
        </p:nvSpPr>
        <p:spPr>
          <a:xfrm>
            <a:off x="7740360" y="6322680"/>
            <a:ext cx="291960" cy="2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6E6DB-2AB5-4C12-8B9F-BC88C737B81F}" type="slidenum">
              <a:rPr b="0" lang="en-US" sz="1400" spc="-1" strike="noStrike">
                <a:solidFill>
                  <a:srgbClr val="060402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1066680" y="17100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Lucida Grande"/>
                <a:ea typeface="Lucida Grande"/>
              </a:rPr>
              <a:t>Cornell Notetaking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1079280" y="1720440"/>
            <a:ext cx="3429000" cy="50864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dcc"/>
                </a:solidFill>
                <a:latin typeface="Lucida Grande"/>
                <a:ea typeface="Lucida Grande"/>
              </a:rPr>
              <a:t>What types o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dcc"/>
                </a:solidFill>
                <a:latin typeface="Lucida Grande"/>
                <a:ea typeface="Lucida Grande"/>
              </a:rPr>
              <a:t>questions shoul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dcc"/>
                </a:solidFill>
                <a:latin typeface="Lucida Grande"/>
                <a:ea typeface="Lucida Grande"/>
              </a:rPr>
              <a:t>I place on th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dcc"/>
                </a:solidFill>
                <a:latin typeface="Lucida Grande"/>
                <a:ea typeface="Lucida Grande"/>
              </a:rPr>
              <a:t>left sid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4572000" y="1771560"/>
            <a:ext cx="4280040" cy="42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82680" indent="-343080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Questions which are </a:t>
            </a:r>
            <a:r>
              <a:rPr b="0" lang="en-US" sz="2400" spc="-1" strike="noStrike">
                <a:solidFill>
                  <a:srgbClr val="d90b00"/>
                </a:solidFill>
                <a:latin typeface="Lucida Grande"/>
                <a:ea typeface="Lucida Grande"/>
              </a:rPr>
              <a:t>answered in the notes on the ri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43080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Questions </a:t>
            </a:r>
            <a:r>
              <a:rPr b="0" lang="en-US" sz="2400" spc="-1" strike="noStrike">
                <a:solidFill>
                  <a:srgbClr val="d90b00"/>
                </a:solidFill>
                <a:latin typeface="Lucida Grande"/>
                <a:ea typeface="Lucida Grande"/>
              </a:rPr>
              <a:t>you still need the answer to--ask a friend or the teacher </a:t>
            </a:r>
            <a:r>
              <a:rPr b="0" lang="en-US" sz="2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after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43080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Questions </a:t>
            </a:r>
            <a:r>
              <a:rPr b="0" lang="en-US" sz="2400" spc="-1" strike="noStrike">
                <a:solidFill>
                  <a:srgbClr val="d90b00"/>
                </a:solidFill>
                <a:latin typeface="Lucida Grande"/>
                <a:ea typeface="Lucida Grande"/>
              </a:rPr>
              <a:t>the teacher might ask on a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43080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Higher level thinking ques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3" name=""/>
          <p:cNvGrpSpPr/>
          <p:nvPr/>
        </p:nvGrpSpPr>
        <p:grpSpPr>
          <a:xfrm>
            <a:off x="0" y="50760"/>
            <a:ext cx="8926560" cy="6743880"/>
            <a:chOff x="0" y="50760"/>
            <a:chExt cx="8926560" cy="6743880"/>
          </a:xfrm>
        </p:grpSpPr>
        <p:grpSp>
          <p:nvGrpSpPr>
            <p:cNvPr id="784" name=""/>
            <p:cNvGrpSpPr/>
            <p:nvPr/>
          </p:nvGrpSpPr>
          <p:grpSpPr>
            <a:xfrm>
              <a:off x="0" y="50760"/>
              <a:ext cx="8926560" cy="6743880"/>
              <a:chOff x="0" y="50760"/>
              <a:chExt cx="8926560" cy="6743880"/>
            </a:xfrm>
          </p:grpSpPr>
          <p:sp>
            <p:nvSpPr>
              <p:cNvPr id="785" name=""/>
              <p:cNvSpPr/>
              <p:nvPr/>
            </p:nvSpPr>
            <p:spPr>
              <a:xfrm>
                <a:off x="528480" y="201600"/>
                <a:ext cx="8398080" cy="64659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786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0" y="50760"/>
                <a:ext cx="1181160" cy="4286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87" name=""/>
              <p:cNvSpPr/>
              <p:nvPr/>
            </p:nvSpPr>
            <p:spPr>
              <a:xfrm>
                <a:off x="596880" y="4129200"/>
                <a:ext cx="1041480" cy="457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788" name="" descr=""/>
              <p:cNvPicPr/>
              <p:nvPr/>
            </p:nvPicPr>
            <p:blipFill>
              <a:blip r:embed="rId2"/>
              <a:srcRect l="0" t="40000" r="0" b="0"/>
              <a:stretch/>
            </p:blipFill>
            <p:spPr>
              <a:xfrm>
                <a:off x="0" y="4222800"/>
                <a:ext cx="1181160" cy="2571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789" name=""/>
            <p:cNvGrpSpPr/>
            <p:nvPr/>
          </p:nvGrpSpPr>
          <p:grpSpPr>
            <a:xfrm>
              <a:off x="1149480" y="1542960"/>
              <a:ext cx="7742160" cy="4802040"/>
              <a:chOff x="1149480" y="1542960"/>
              <a:chExt cx="7742160" cy="4802040"/>
            </a:xfrm>
          </p:grpSpPr>
          <p:sp>
            <p:nvSpPr>
              <p:cNvPr id="790" name=""/>
              <p:cNvSpPr/>
              <p:nvPr/>
            </p:nvSpPr>
            <p:spPr>
              <a:xfrm>
                <a:off x="1149480" y="1542960"/>
                <a:ext cx="7742160" cy="1440"/>
              </a:xfrm>
              <a:prstGeom prst="line">
                <a:avLst/>
              </a:prstGeom>
              <a:ln w="9360">
                <a:solidFill>
                  <a:srgbClr val="cbbd8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1149480" y="1771560"/>
                <a:ext cx="7742160" cy="1440"/>
              </a:xfrm>
              <a:prstGeom prst="line">
                <a:avLst/>
              </a:prstGeom>
              <a:ln w="9360">
                <a:solidFill>
                  <a:srgbClr val="cbbd8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1149480" y="2000160"/>
                <a:ext cx="7742160" cy="1440"/>
              </a:xfrm>
              <a:prstGeom prst="line">
                <a:avLst/>
              </a:prstGeom>
              <a:ln w="9360">
                <a:solidFill>
                  <a:srgbClr val="cbbd8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1149480" y="2228760"/>
                <a:ext cx="7742160" cy="1440"/>
              </a:xfrm>
              <a:prstGeom prst="line">
                <a:avLst/>
              </a:prstGeom>
              <a:ln w="9360">
                <a:solidFill>
                  <a:srgbClr val="cbbd8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1149480" y="2457360"/>
                <a:ext cx="7742160" cy="1440"/>
              </a:xfrm>
              <a:prstGeom prst="line">
                <a:avLst/>
              </a:prstGeom>
              <a:ln w="9360">
                <a:solidFill>
                  <a:srgbClr val="cbbd8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1149480" y="2685960"/>
                <a:ext cx="7742160" cy="1440"/>
              </a:xfrm>
              <a:prstGeom prst="line">
                <a:avLst/>
              </a:prstGeom>
              <a:ln w="9360">
                <a:solidFill>
                  <a:srgbClr val="cbbd8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1149480" y="2914560"/>
                <a:ext cx="7742160" cy="1440"/>
              </a:xfrm>
              <a:prstGeom prst="line">
                <a:avLst/>
              </a:prstGeom>
              <a:ln w="9360">
                <a:solidFill>
                  <a:srgbClr val="cbbd8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1149480" y="3143160"/>
                <a:ext cx="7742160" cy="1440"/>
              </a:xfrm>
              <a:prstGeom prst="line">
                <a:avLst/>
              </a:prstGeom>
              <a:ln w="9360">
                <a:solidFill>
                  <a:srgbClr val="cbbd8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1149480" y="3371760"/>
                <a:ext cx="7742160" cy="1440"/>
              </a:xfrm>
              <a:prstGeom prst="line">
                <a:avLst/>
              </a:prstGeom>
              <a:ln w="9360">
                <a:solidFill>
                  <a:srgbClr val="cbbd8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1149480" y="3600360"/>
                <a:ext cx="7742160" cy="1440"/>
              </a:xfrm>
              <a:prstGeom prst="line">
                <a:avLst/>
              </a:prstGeom>
              <a:ln w="9360">
                <a:solidFill>
                  <a:srgbClr val="cbbd8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1149480" y="3828960"/>
                <a:ext cx="7742160" cy="1440"/>
              </a:xfrm>
              <a:prstGeom prst="line">
                <a:avLst/>
              </a:prstGeom>
              <a:ln w="9360">
                <a:solidFill>
                  <a:srgbClr val="cbbd8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1149480" y="4057560"/>
                <a:ext cx="7742160" cy="1440"/>
              </a:xfrm>
              <a:prstGeom prst="line">
                <a:avLst/>
              </a:prstGeom>
              <a:ln w="9360">
                <a:solidFill>
                  <a:srgbClr val="cbbd8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1149480" y="4286160"/>
                <a:ext cx="7742160" cy="1440"/>
              </a:xfrm>
              <a:prstGeom prst="line">
                <a:avLst/>
              </a:prstGeom>
              <a:ln w="9360">
                <a:solidFill>
                  <a:srgbClr val="cbbd8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1149480" y="4514760"/>
                <a:ext cx="7742160" cy="1440"/>
              </a:xfrm>
              <a:prstGeom prst="line">
                <a:avLst/>
              </a:prstGeom>
              <a:ln w="9360">
                <a:solidFill>
                  <a:srgbClr val="cbbd8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1149480" y="4743360"/>
                <a:ext cx="7742160" cy="1440"/>
              </a:xfrm>
              <a:prstGeom prst="line">
                <a:avLst/>
              </a:prstGeom>
              <a:ln w="9360">
                <a:solidFill>
                  <a:srgbClr val="cbbd8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1149480" y="4971960"/>
                <a:ext cx="7742160" cy="1440"/>
              </a:xfrm>
              <a:prstGeom prst="line">
                <a:avLst/>
              </a:prstGeom>
              <a:ln w="9360">
                <a:solidFill>
                  <a:srgbClr val="cbbd8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1149480" y="5200560"/>
                <a:ext cx="7742160" cy="1440"/>
              </a:xfrm>
              <a:prstGeom prst="line">
                <a:avLst/>
              </a:prstGeom>
              <a:ln w="9360">
                <a:solidFill>
                  <a:srgbClr val="cbbd8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1149480" y="5429160"/>
                <a:ext cx="7742160" cy="1440"/>
              </a:xfrm>
              <a:prstGeom prst="line">
                <a:avLst/>
              </a:prstGeom>
              <a:ln w="9360">
                <a:solidFill>
                  <a:srgbClr val="cbbd8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1149480" y="5657760"/>
                <a:ext cx="7742160" cy="1440"/>
              </a:xfrm>
              <a:prstGeom prst="line">
                <a:avLst/>
              </a:prstGeom>
              <a:ln w="9360">
                <a:solidFill>
                  <a:srgbClr val="cbbd8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1149480" y="5886360"/>
                <a:ext cx="7742160" cy="1440"/>
              </a:xfrm>
              <a:prstGeom prst="line">
                <a:avLst/>
              </a:prstGeom>
              <a:ln w="9360">
                <a:solidFill>
                  <a:srgbClr val="cbbd8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1149480" y="6114960"/>
                <a:ext cx="7742160" cy="1440"/>
              </a:xfrm>
              <a:prstGeom prst="line">
                <a:avLst/>
              </a:prstGeom>
              <a:ln w="9360">
                <a:solidFill>
                  <a:srgbClr val="cbbd8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1149480" y="6343560"/>
                <a:ext cx="7742160" cy="1440"/>
              </a:xfrm>
              <a:prstGeom prst="line">
                <a:avLst/>
              </a:prstGeom>
              <a:ln w="9360">
                <a:solidFill>
                  <a:srgbClr val="cbbd8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12" name=""/>
          <p:cNvSpPr txBox="1"/>
          <p:nvPr/>
        </p:nvSpPr>
        <p:spPr>
          <a:xfrm>
            <a:off x="7740360" y="6322680"/>
            <a:ext cx="291960" cy="2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C5F4E-37F8-4038-9420-A87E78AB9BAA}" type="slidenum">
              <a:rPr b="0" lang="en-US" sz="1400" spc="-1" strike="noStrike">
                <a:solidFill>
                  <a:srgbClr val="060402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1066680" y="17100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Lucida Grande"/>
                <a:ea typeface="Lucida Grande"/>
              </a:rPr>
              <a:t>Cornell Notetaking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1066320" y="1771200"/>
            <a:ext cx="3429000" cy="50864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dcc"/>
                </a:solidFill>
                <a:latin typeface="Lucida Grande"/>
                <a:ea typeface="Lucida Grande"/>
              </a:rPr>
              <a:t>What else coul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dcc"/>
                </a:solidFill>
                <a:latin typeface="Lucida Grande"/>
                <a:ea typeface="Lucida Grande"/>
              </a:rPr>
              <a:t>I place on th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dcc"/>
                </a:solidFill>
                <a:latin typeface="Lucida Grande"/>
                <a:ea typeface="Lucida Grande"/>
              </a:rPr>
              <a:t>left sid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4572000" y="1771560"/>
            <a:ext cx="4280040" cy="32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82680" indent="-343080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90b00"/>
                </a:solidFill>
                <a:latin typeface="Lucida Grande"/>
                <a:ea typeface="Lucida Grande"/>
              </a:rPr>
              <a:t>Key terms, vocabulary words, or d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43080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90b00"/>
                </a:solidFill>
                <a:latin typeface="Lucida Grande"/>
                <a:ea typeface="Lucida Grande"/>
              </a:rPr>
              <a:t>Diagrams or fig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43080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Reference pages in a t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43080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Steps in a solution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43080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90b00"/>
                </a:solidFill>
                <a:latin typeface="Lucida Grande"/>
                <a:ea typeface="Lucida Grande"/>
              </a:rPr>
              <a:t>Notes to myself about actions I need to ta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6" name=""/>
          <p:cNvGrpSpPr/>
          <p:nvPr/>
        </p:nvGrpSpPr>
        <p:grpSpPr>
          <a:xfrm>
            <a:off x="0" y="50760"/>
            <a:ext cx="8926560" cy="6743880"/>
            <a:chOff x="0" y="50760"/>
            <a:chExt cx="8926560" cy="6743880"/>
          </a:xfrm>
        </p:grpSpPr>
        <p:grpSp>
          <p:nvGrpSpPr>
            <p:cNvPr id="817" name=""/>
            <p:cNvGrpSpPr/>
            <p:nvPr/>
          </p:nvGrpSpPr>
          <p:grpSpPr>
            <a:xfrm>
              <a:off x="0" y="50760"/>
              <a:ext cx="8926560" cy="6743880"/>
              <a:chOff x="0" y="50760"/>
              <a:chExt cx="8926560" cy="6743880"/>
            </a:xfrm>
          </p:grpSpPr>
          <p:sp>
            <p:nvSpPr>
              <p:cNvPr id="818" name=""/>
              <p:cNvSpPr/>
              <p:nvPr/>
            </p:nvSpPr>
            <p:spPr>
              <a:xfrm>
                <a:off x="528480" y="201600"/>
                <a:ext cx="8398080" cy="64659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819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0" y="50760"/>
                <a:ext cx="1181160" cy="4286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0" name=""/>
              <p:cNvSpPr/>
              <p:nvPr/>
            </p:nvSpPr>
            <p:spPr>
              <a:xfrm>
                <a:off x="596880" y="4129200"/>
                <a:ext cx="1041480" cy="457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821" name="" descr=""/>
              <p:cNvPicPr/>
              <p:nvPr/>
            </p:nvPicPr>
            <p:blipFill>
              <a:blip r:embed="rId2"/>
              <a:srcRect l="0" t="40000" r="0" b="0"/>
              <a:stretch/>
            </p:blipFill>
            <p:spPr>
              <a:xfrm>
                <a:off x="0" y="4222800"/>
                <a:ext cx="1181160" cy="2571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822" name=""/>
            <p:cNvGrpSpPr/>
            <p:nvPr/>
          </p:nvGrpSpPr>
          <p:grpSpPr>
            <a:xfrm>
              <a:off x="1149480" y="1542960"/>
              <a:ext cx="7742160" cy="4802040"/>
              <a:chOff x="1149480" y="1542960"/>
              <a:chExt cx="7742160" cy="4802040"/>
            </a:xfrm>
          </p:grpSpPr>
          <p:sp>
            <p:nvSpPr>
              <p:cNvPr id="823" name=""/>
              <p:cNvSpPr/>
              <p:nvPr/>
            </p:nvSpPr>
            <p:spPr>
              <a:xfrm>
                <a:off x="1149480" y="1542960"/>
                <a:ext cx="7742160" cy="1440"/>
              </a:xfrm>
              <a:prstGeom prst="line">
                <a:avLst/>
              </a:prstGeom>
              <a:ln w="9360">
                <a:solidFill>
                  <a:srgbClr val="cbbd8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1149480" y="1771560"/>
                <a:ext cx="7742160" cy="1440"/>
              </a:xfrm>
              <a:prstGeom prst="line">
                <a:avLst/>
              </a:prstGeom>
              <a:ln w="9360">
                <a:solidFill>
                  <a:srgbClr val="cbbd8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1149480" y="2000160"/>
                <a:ext cx="7742160" cy="1440"/>
              </a:xfrm>
              <a:prstGeom prst="line">
                <a:avLst/>
              </a:prstGeom>
              <a:ln w="9360">
                <a:solidFill>
                  <a:srgbClr val="cbbd8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1149480" y="2228760"/>
                <a:ext cx="7742160" cy="1440"/>
              </a:xfrm>
              <a:prstGeom prst="line">
                <a:avLst/>
              </a:prstGeom>
              <a:ln w="9360">
                <a:solidFill>
                  <a:srgbClr val="cbbd8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1149480" y="2457360"/>
                <a:ext cx="7742160" cy="1440"/>
              </a:xfrm>
              <a:prstGeom prst="line">
                <a:avLst/>
              </a:prstGeom>
              <a:ln w="9360">
                <a:solidFill>
                  <a:srgbClr val="cbbd8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1149480" y="2685960"/>
                <a:ext cx="7742160" cy="1440"/>
              </a:xfrm>
              <a:prstGeom prst="line">
                <a:avLst/>
              </a:prstGeom>
              <a:ln w="9360">
                <a:solidFill>
                  <a:srgbClr val="cbbd8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1149480" y="2914560"/>
                <a:ext cx="7742160" cy="1440"/>
              </a:xfrm>
              <a:prstGeom prst="line">
                <a:avLst/>
              </a:prstGeom>
              <a:ln w="9360">
                <a:solidFill>
                  <a:srgbClr val="cbbd8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1149480" y="3143160"/>
                <a:ext cx="7742160" cy="1440"/>
              </a:xfrm>
              <a:prstGeom prst="line">
                <a:avLst/>
              </a:prstGeom>
              <a:ln w="9360">
                <a:solidFill>
                  <a:srgbClr val="cbbd8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1149480" y="3371760"/>
                <a:ext cx="7742160" cy="1440"/>
              </a:xfrm>
              <a:prstGeom prst="line">
                <a:avLst/>
              </a:prstGeom>
              <a:ln w="9360">
                <a:solidFill>
                  <a:srgbClr val="cbbd8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1149480" y="3600360"/>
                <a:ext cx="7742160" cy="1440"/>
              </a:xfrm>
              <a:prstGeom prst="line">
                <a:avLst/>
              </a:prstGeom>
              <a:ln w="9360">
                <a:solidFill>
                  <a:srgbClr val="cbbd8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1149480" y="3828960"/>
                <a:ext cx="7742160" cy="1440"/>
              </a:xfrm>
              <a:prstGeom prst="line">
                <a:avLst/>
              </a:prstGeom>
              <a:ln w="9360">
                <a:solidFill>
                  <a:srgbClr val="cbbd8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1149480" y="4057560"/>
                <a:ext cx="7742160" cy="1440"/>
              </a:xfrm>
              <a:prstGeom prst="line">
                <a:avLst/>
              </a:prstGeom>
              <a:ln w="9360">
                <a:solidFill>
                  <a:srgbClr val="cbbd8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1149480" y="4286160"/>
                <a:ext cx="7742160" cy="1440"/>
              </a:xfrm>
              <a:prstGeom prst="line">
                <a:avLst/>
              </a:prstGeom>
              <a:ln w="9360">
                <a:solidFill>
                  <a:srgbClr val="cbbd8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1149480" y="4514760"/>
                <a:ext cx="7742160" cy="1440"/>
              </a:xfrm>
              <a:prstGeom prst="line">
                <a:avLst/>
              </a:prstGeom>
              <a:ln w="9360">
                <a:solidFill>
                  <a:srgbClr val="cbbd8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1149480" y="4743360"/>
                <a:ext cx="7742160" cy="1440"/>
              </a:xfrm>
              <a:prstGeom prst="line">
                <a:avLst/>
              </a:prstGeom>
              <a:ln w="9360">
                <a:solidFill>
                  <a:srgbClr val="cbbd8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1149480" y="4971960"/>
                <a:ext cx="7742160" cy="1440"/>
              </a:xfrm>
              <a:prstGeom prst="line">
                <a:avLst/>
              </a:prstGeom>
              <a:ln w="9360">
                <a:solidFill>
                  <a:srgbClr val="cbbd8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1149480" y="5200560"/>
                <a:ext cx="7742160" cy="1440"/>
              </a:xfrm>
              <a:prstGeom prst="line">
                <a:avLst/>
              </a:prstGeom>
              <a:ln w="9360">
                <a:solidFill>
                  <a:srgbClr val="cbbd8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1149480" y="5429160"/>
                <a:ext cx="7742160" cy="1440"/>
              </a:xfrm>
              <a:prstGeom prst="line">
                <a:avLst/>
              </a:prstGeom>
              <a:ln w="9360">
                <a:solidFill>
                  <a:srgbClr val="cbbd8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1149480" y="5657760"/>
                <a:ext cx="7742160" cy="1440"/>
              </a:xfrm>
              <a:prstGeom prst="line">
                <a:avLst/>
              </a:prstGeom>
              <a:ln w="9360">
                <a:solidFill>
                  <a:srgbClr val="cbbd8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1149480" y="5886360"/>
                <a:ext cx="7742160" cy="1440"/>
              </a:xfrm>
              <a:prstGeom prst="line">
                <a:avLst/>
              </a:prstGeom>
              <a:ln w="9360">
                <a:solidFill>
                  <a:srgbClr val="cbbd8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1149480" y="6114960"/>
                <a:ext cx="7742160" cy="1440"/>
              </a:xfrm>
              <a:prstGeom prst="line">
                <a:avLst/>
              </a:prstGeom>
              <a:ln w="9360">
                <a:solidFill>
                  <a:srgbClr val="cbbd8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1149480" y="6343560"/>
                <a:ext cx="7742160" cy="1440"/>
              </a:xfrm>
              <a:prstGeom prst="line">
                <a:avLst/>
              </a:prstGeom>
              <a:ln w="9360">
                <a:solidFill>
                  <a:srgbClr val="cbbd8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5" name=""/>
          <p:cNvSpPr txBox="1"/>
          <p:nvPr/>
        </p:nvSpPr>
        <p:spPr>
          <a:xfrm>
            <a:off x="7740360" y="6322680"/>
            <a:ext cx="291960" cy="2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D7CAA-C32A-4C5C-8FCC-6CD859A6126D}" type="slidenum">
              <a:rPr b="0" lang="en-US" sz="1400" spc="-1" strike="noStrike">
                <a:solidFill>
                  <a:srgbClr val="060402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1066680" y="17100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Lucida Grande"/>
                <a:ea typeface="Lucida Grande"/>
              </a:rPr>
              <a:t>Cornell Notetaking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1066320" y="1771200"/>
            <a:ext cx="3429000" cy="50864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What are so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good tips f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taking t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notes on th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righ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4572000" y="1771560"/>
            <a:ext cx="4280040" cy="39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82680" indent="-34308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Write in your own words (paraphras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4308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Write using abbreviations (check a dictionary for these and create your ow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4308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Draw a figure or diagr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4308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Leave space where you think you might need to “fill in” info la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4308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Use bullets, arrows, and indenting to list key ide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4308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Write legib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ffice of Superintendent</dc:creator>
  <dc:description/>
  <dc:language>en-US</dc:language>
  <cp:lastModifiedBy/>
  <cp:revision>0</cp:revision>
  <dc:subject/>
  <dc:title>Cornell Notes Powerpoint</dc:title>
</cp:coreProperties>
</file>